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4C22E-A212-43A3-ADD0-5715E5C4F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3DF7D-A8D9-41E1-867B-FC7F26CC3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AC6FD-0619-473F-BEB9-610F2309D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ADD5C-1E3B-4D91-AE5F-023C3587D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3EE4F-65FB-40C5-9F9C-A552161D4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C2A52-F19F-42FE-82CA-3ABC6E706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060F8-6B35-4FA7-94A2-56E4A99C0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4FB8D-5509-4348-BC6F-B51F5939D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A5256-1431-4183-8760-657C76A60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01041-64F0-4109-B51D-6C3350595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A8291-94F4-4363-B8A0-0F1DA3A48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77A54-E98D-4213-932C-0D89DBF7F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D6D5B-A5EB-4CF3-B10E-EA17DF3ED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B691C-55D4-4E1E-B79C-CD7F1EEE1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799AE-1E95-42D0-8FC6-6E68C056E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D475C-6B5D-47A5-BAE3-87384BD79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270CF-BF8A-409E-A5FC-A5C4626B7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0B154-7722-4D90-B2A2-BD4CC1709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A571C-6A5D-45AB-88FB-6C587D9E2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F86F8-409A-45E5-8C75-B8B06B9D6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48B9E-50AA-44C7-8DBA-C55864F37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778B4-3DB7-4CDA-8000-35A8AB8B6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047EF-91CC-469F-9E4B-B02975DFD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EDD4B-44C0-4793-B318-0FEC47E98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7E93B-AA91-44E2-BE78-24D4D1397B3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5E31F-B102-4435-A6B4-C0F78136D52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DC Electricity &amp; Capacitors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CEA AS3.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xt Chapters 12-1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7952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Internal Resistanc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473040" y="1571760"/>
            <a:ext cx="3950640" cy="3623760"/>
            <a:chOff x="473040" y="1571760"/>
            <a:chExt cx="3950640" cy="3623760"/>
          </a:xfrm>
        </p:grpSpPr>
        <p:sp>
          <p:nvSpPr>
            <p:cNvPr id="758" name=""/>
            <p:cNvSpPr/>
            <p:nvPr/>
          </p:nvSpPr>
          <p:spPr>
            <a:xfrm flipH="1" rot="16200000">
              <a:off x="2833560" y="1827720"/>
              <a:ext cx="510840" cy="112212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733400" y="1876320"/>
              <a:ext cx="0" cy="9475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552680" y="2089080"/>
              <a:ext cx="0" cy="5122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639240" y="2400120"/>
              <a:ext cx="784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>
              <a:off x="1731960" y="2378160"/>
              <a:ext cx="784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 flipH="1">
              <a:off x="788400" y="2378160"/>
              <a:ext cx="747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 flipH="1" flipV="1" rot="16200000">
              <a:off x="943920" y="2280600"/>
              <a:ext cx="166320" cy="204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 flipH="1" flipV="1" rot="16200000">
              <a:off x="4125960" y="2306880"/>
              <a:ext cx="164880" cy="204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376280" y="1601640"/>
              <a:ext cx="2421000" cy="14634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67" name=""/>
            <p:cNvGrpSpPr/>
            <p:nvPr/>
          </p:nvGrpSpPr>
          <p:grpSpPr>
            <a:xfrm>
              <a:off x="473040" y="3343320"/>
              <a:ext cx="592200" cy="591480"/>
              <a:chOff x="473040" y="3343320"/>
              <a:chExt cx="592200" cy="591480"/>
            </a:xfrm>
          </p:grpSpPr>
          <p:sp>
            <p:nvSpPr>
              <p:cNvPr id="768" name=""/>
              <p:cNvSpPr/>
              <p:nvPr/>
            </p:nvSpPr>
            <p:spPr>
              <a:xfrm>
                <a:off x="473040" y="3343320"/>
                <a:ext cx="592200" cy="591480"/>
              </a:xfrm>
              <a:prstGeom prst="ellipse">
                <a:avLst/>
              </a:prstGeom>
              <a:solidFill>
                <a:srgbClr val="66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547560" y="3428640"/>
                <a:ext cx="486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70" name=""/>
            <p:cNvGrpSpPr/>
            <p:nvPr/>
          </p:nvGrpSpPr>
          <p:grpSpPr>
            <a:xfrm>
              <a:off x="2271600" y="3270240"/>
              <a:ext cx="592200" cy="591840"/>
              <a:chOff x="2271600" y="3270240"/>
              <a:chExt cx="592200" cy="591840"/>
            </a:xfrm>
          </p:grpSpPr>
          <p:sp>
            <p:nvSpPr>
              <p:cNvPr id="771" name=""/>
              <p:cNvSpPr/>
              <p:nvPr/>
            </p:nvSpPr>
            <p:spPr>
              <a:xfrm>
                <a:off x="2271600" y="3270240"/>
                <a:ext cx="592200" cy="591840"/>
              </a:xfrm>
              <a:prstGeom prst="ellipse">
                <a:avLst/>
              </a:prstGeom>
              <a:solidFill>
                <a:srgbClr val="66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2346120" y="3355560"/>
                <a:ext cx="486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73" name=""/>
            <p:cNvSpPr/>
            <p:nvPr/>
          </p:nvSpPr>
          <p:spPr>
            <a:xfrm>
              <a:off x="774720" y="2376360"/>
              <a:ext cx="0" cy="979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752400" y="3936960"/>
              <a:ext cx="0" cy="731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527120" y="4419360"/>
              <a:ext cx="1700280" cy="48384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 flipV="1">
              <a:off x="1752480" y="4206960"/>
              <a:ext cx="1108080" cy="988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41240" y="4668840"/>
              <a:ext cx="785880" cy="9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408560" y="2398680"/>
              <a:ext cx="1440" cy="2269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>
              <a:off x="3216240" y="4668840"/>
              <a:ext cx="1162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851200" y="3592440"/>
              <a:ext cx="1095120" cy="10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 flipV="1">
              <a:off x="3936960" y="2396880"/>
              <a:ext cx="9360" cy="1193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268280" y="2376360"/>
              <a:ext cx="0" cy="1184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258920" y="3560760"/>
              <a:ext cx="1000080" cy="9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346040" y="157176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MF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754360" y="221616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6" name=""/>
          <p:cNvGrpSpPr/>
          <p:nvPr/>
        </p:nvGrpSpPr>
        <p:grpSpPr>
          <a:xfrm>
            <a:off x="5176800" y="1247760"/>
            <a:ext cx="3580920" cy="3983040"/>
            <a:chOff x="5176800" y="1247760"/>
            <a:chExt cx="3580920" cy="3983040"/>
          </a:xfrm>
        </p:grpSpPr>
        <p:sp>
          <p:nvSpPr>
            <p:cNvPr id="787" name=""/>
            <p:cNvSpPr/>
            <p:nvPr/>
          </p:nvSpPr>
          <p:spPr>
            <a:xfrm>
              <a:off x="5776560" y="4754520"/>
              <a:ext cx="2916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 flipV="1">
              <a:off x="5805360" y="1835280"/>
              <a:ext cx="0" cy="29160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810040" y="2722680"/>
              <a:ext cx="2677680" cy="752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564320" y="4862520"/>
              <a:ext cx="119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 (A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422680" y="1247760"/>
              <a:ext cx="149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 (V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7378560" y="2797200"/>
              <a:ext cx="102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176800" y="2517840"/>
              <a:ext cx="76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MF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94" name=""/>
              <p:cNvSpPr txBox="1"/>
              <p:nvPr/>
            </p:nvSpPr>
            <p:spPr>
              <a:xfrm>
                <a:off x="1447920" y="5237280"/>
                <a:ext cx="609588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MF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I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Electrical Meter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lvanometer – very sensitive meter that can be adapted to read either current or volt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st know 2 things about the galvanome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internal resis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urrent that causes full scale deflection of the needle I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f.s.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Electrical Meter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make a voltmeter the galvanometer must be connected in series with a large resistor R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9" name=""/>
          <p:cNvGrpSpPr/>
          <p:nvPr/>
        </p:nvGrpSpPr>
        <p:grpSpPr>
          <a:xfrm>
            <a:off x="312840" y="3467160"/>
            <a:ext cx="7433280" cy="2882880"/>
            <a:chOff x="312840" y="3467160"/>
            <a:chExt cx="7433280" cy="2882880"/>
          </a:xfrm>
        </p:grpSpPr>
        <p:grpSp>
          <p:nvGrpSpPr>
            <p:cNvPr id="800" name=""/>
            <p:cNvGrpSpPr/>
            <p:nvPr/>
          </p:nvGrpSpPr>
          <p:grpSpPr>
            <a:xfrm>
              <a:off x="1355760" y="3467160"/>
              <a:ext cx="6390360" cy="2277360"/>
              <a:chOff x="1355760" y="3467160"/>
              <a:chExt cx="6390360" cy="2277360"/>
            </a:xfrm>
          </p:grpSpPr>
          <p:sp>
            <p:nvSpPr>
              <p:cNvPr id="801" name=""/>
              <p:cNvSpPr/>
              <p:nvPr/>
            </p:nvSpPr>
            <p:spPr>
              <a:xfrm>
                <a:off x="3595680" y="4844520"/>
                <a:ext cx="900000" cy="900000"/>
              </a:xfrm>
              <a:prstGeom prst="ellipse">
                <a:avLst/>
              </a:prstGeom>
              <a:solidFill>
                <a:srgbClr val="66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3704400" y="4981680"/>
                <a:ext cx="668520" cy="614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flipH="1">
                <a:off x="3772800" y="4967640"/>
                <a:ext cx="573840" cy="668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flipH="1">
                <a:off x="1355760" y="5321880"/>
                <a:ext cx="2239920" cy="2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flipV="1">
                <a:off x="4483800" y="5324040"/>
                <a:ext cx="3262320" cy="9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06" name=""/>
              <p:cNvGrpSpPr/>
              <p:nvPr/>
            </p:nvGrpSpPr>
            <p:grpSpPr>
              <a:xfrm>
                <a:off x="2640960" y="3658320"/>
                <a:ext cx="819000" cy="790920"/>
                <a:chOff x="2640960" y="3658320"/>
                <a:chExt cx="819000" cy="790920"/>
              </a:xfrm>
            </p:grpSpPr>
            <p:sp>
              <p:nvSpPr>
                <p:cNvPr id="807" name=""/>
                <p:cNvSpPr/>
                <p:nvPr/>
              </p:nvSpPr>
              <p:spPr>
                <a:xfrm>
                  <a:off x="2640960" y="3658320"/>
                  <a:ext cx="791280" cy="790920"/>
                </a:xfrm>
                <a:prstGeom prst="ellipse">
                  <a:avLst/>
                </a:prstGeom>
                <a:solidFill>
                  <a:srgbClr val="6666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2803680" y="3769200"/>
                  <a:ext cx="656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G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9" name=""/>
              <p:cNvSpPr/>
              <p:nvPr/>
            </p:nvSpPr>
            <p:spPr>
              <a:xfrm rot="16200000">
                <a:off x="3866400" y="3715560"/>
                <a:ext cx="313920" cy="73512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5015520" y="3726720"/>
                <a:ext cx="1514520" cy="65448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flipV="1">
                <a:off x="2203920" y="4081320"/>
                <a:ext cx="0" cy="12405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2203920" y="4081320"/>
                <a:ext cx="4489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3418200" y="4067280"/>
                <a:ext cx="2170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4386960" y="4081320"/>
                <a:ext cx="6400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6530040" y="4052880"/>
                <a:ext cx="4086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6924960" y="4051080"/>
                <a:ext cx="0" cy="12830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5315760" y="3738600"/>
                <a:ext cx="10512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R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Arial"/>
                  </a:rPr>
                  <a:t>s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3772800" y="3835440"/>
                <a:ext cx="531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r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461320" y="3467160"/>
                <a:ext cx="2239920" cy="12002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20" name=""/>
            <p:cNvSpPr/>
            <p:nvPr/>
          </p:nvSpPr>
          <p:spPr>
            <a:xfrm>
              <a:off x="312840" y="3732120"/>
              <a:ext cx="1709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mall current passes through 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1430280" y="4173480"/>
              <a:ext cx="774720" cy="54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1033560" y="5981760"/>
              <a:ext cx="477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ost current continues through circui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 flipV="1">
              <a:off x="2259000" y="5335560"/>
              <a:ext cx="635040" cy="635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14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Electrical Meter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181160"/>
            <a:ext cx="7889760" cy="24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: Need to measure up to 10V with a  meter that has 200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  <a:ea typeface="Arial"/>
              </a:rPr>
              <a:t>Ω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of internal resistance and a full scale deflection at 5m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=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0V= 0.005A x (200 + 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=1800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6" name=""/>
          <p:cNvGrpSpPr/>
          <p:nvPr/>
        </p:nvGrpSpPr>
        <p:grpSpPr>
          <a:xfrm>
            <a:off x="1387440" y="3929040"/>
            <a:ext cx="6391080" cy="2646360"/>
            <a:chOff x="1387440" y="3929040"/>
            <a:chExt cx="6391080" cy="2646360"/>
          </a:xfrm>
        </p:grpSpPr>
        <p:sp>
          <p:nvSpPr>
            <p:cNvPr id="827" name=""/>
            <p:cNvSpPr/>
            <p:nvPr/>
          </p:nvSpPr>
          <p:spPr>
            <a:xfrm>
              <a:off x="3627360" y="5306760"/>
              <a:ext cx="900000" cy="90036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3735360" y="5443560"/>
              <a:ext cx="669960" cy="614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 flipH="1">
              <a:off x="3805200" y="5429160"/>
              <a:ext cx="573120" cy="668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 flipH="1">
              <a:off x="1387440" y="5784840"/>
              <a:ext cx="223992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 flipV="1">
              <a:off x="4514760" y="5785920"/>
              <a:ext cx="3263760" cy="9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673360" y="4120920"/>
              <a:ext cx="790560" cy="79056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836800" y="4232160"/>
              <a:ext cx="65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 rot="16200000">
              <a:off x="3898080" y="4177080"/>
              <a:ext cx="314280" cy="73476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046480" y="4189320"/>
              <a:ext cx="1516320" cy="65412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 flipV="1">
              <a:off x="2235240" y="4542840"/>
              <a:ext cx="0" cy="1241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235240" y="4543200"/>
              <a:ext cx="449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449520" y="4529160"/>
              <a:ext cx="217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419360" y="4543200"/>
              <a:ext cx="640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6562800" y="4514760"/>
              <a:ext cx="407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956280" y="4513320"/>
              <a:ext cx="0" cy="1282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348160" y="4200480"/>
              <a:ext cx="1050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674880" y="4362480"/>
              <a:ext cx="85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0</a:t>
              </a:r>
              <a:r>
                <a:rPr b="0" lang="el-GR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Ω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493720" y="3929040"/>
              <a:ext cx="2240280" cy="12002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763800" y="6207120"/>
              <a:ext cx="110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V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2151000" y="5238720"/>
              <a:ext cx="160200" cy="1620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419120" y="5011560"/>
              <a:ext cx="74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m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Electrical Meter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make an ammeter the galvanometer must be connected in parallel with a very small resistor R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0" name=""/>
          <p:cNvGrpSpPr/>
          <p:nvPr/>
        </p:nvGrpSpPr>
        <p:grpSpPr>
          <a:xfrm>
            <a:off x="1560600" y="3067200"/>
            <a:ext cx="6330960" cy="3250440"/>
            <a:chOff x="1560600" y="3067200"/>
            <a:chExt cx="6330960" cy="3250440"/>
          </a:xfrm>
        </p:grpSpPr>
        <p:sp>
          <p:nvSpPr>
            <p:cNvPr id="851" name=""/>
            <p:cNvSpPr/>
            <p:nvPr/>
          </p:nvSpPr>
          <p:spPr>
            <a:xfrm>
              <a:off x="5826240" y="3067200"/>
              <a:ext cx="2065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mall current passes through 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52" name=""/>
            <p:cNvGrpSpPr/>
            <p:nvPr/>
          </p:nvGrpSpPr>
          <p:grpSpPr>
            <a:xfrm>
              <a:off x="1560600" y="3325680"/>
              <a:ext cx="4775040" cy="2991960"/>
              <a:chOff x="1560600" y="3325680"/>
              <a:chExt cx="4775040" cy="2991960"/>
            </a:xfrm>
          </p:grpSpPr>
          <p:sp>
            <p:nvSpPr>
              <p:cNvPr id="853" name=""/>
              <p:cNvSpPr/>
              <p:nvPr/>
            </p:nvSpPr>
            <p:spPr>
              <a:xfrm flipH="1">
                <a:off x="1560600" y="5312880"/>
                <a:ext cx="2239920" cy="1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flipV="1">
                <a:off x="4568760" y="5336280"/>
                <a:ext cx="1629000" cy="9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55" name=""/>
              <p:cNvGrpSpPr/>
              <p:nvPr/>
            </p:nvGrpSpPr>
            <p:grpSpPr>
              <a:xfrm>
                <a:off x="2846520" y="3648960"/>
                <a:ext cx="818640" cy="789840"/>
                <a:chOff x="2846520" y="3648960"/>
                <a:chExt cx="818640" cy="789840"/>
              </a:xfrm>
            </p:grpSpPr>
            <p:sp>
              <p:nvSpPr>
                <p:cNvPr id="856" name=""/>
                <p:cNvSpPr/>
                <p:nvPr/>
              </p:nvSpPr>
              <p:spPr>
                <a:xfrm>
                  <a:off x="2846520" y="3648960"/>
                  <a:ext cx="790560" cy="789840"/>
                </a:xfrm>
                <a:prstGeom prst="ellipse">
                  <a:avLst/>
                </a:prstGeom>
                <a:solidFill>
                  <a:srgbClr val="6666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>
                  <a:off x="3009240" y="3759480"/>
                  <a:ext cx="655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G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8" name=""/>
              <p:cNvSpPr/>
              <p:nvPr/>
            </p:nvSpPr>
            <p:spPr>
              <a:xfrm rot="16200000">
                <a:off x="4071240" y="3705120"/>
                <a:ext cx="313920" cy="73476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3024360" y="4965120"/>
                <a:ext cx="1515960" cy="65376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flipV="1">
                <a:off x="2408400" y="4071240"/>
                <a:ext cx="0" cy="1241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2408400" y="4071240"/>
                <a:ext cx="449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3622680" y="4057200"/>
                <a:ext cx="2174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4592520" y="4071240"/>
                <a:ext cx="6400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5246640" y="4073040"/>
                <a:ext cx="0" cy="1282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3403800" y="5039640"/>
                <a:ext cx="10508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R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3978360" y="3825360"/>
                <a:ext cx="531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r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2666880" y="3457080"/>
                <a:ext cx="2240280" cy="11998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2087640" y="5949360"/>
                <a:ext cx="4248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Most current continues through circuit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flipV="1">
                <a:off x="2389320" y="5313960"/>
                <a:ext cx="353880" cy="666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flipH="1">
                <a:off x="5024520" y="3325680"/>
                <a:ext cx="752400" cy="720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/>
          <p:nvPr/>
        </p:nvSpPr>
        <p:spPr>
          <a:xfrm>
            <a:off x="414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Electrical Me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457200" y="1181160"/>
            <a:ext cx="78897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: Need to measure up to 1A with a  meter that has 200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  <a:ea typeface="Arial"/>
              </a:rPr>
              <a:t>Ω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of internal resistance and a full scale deflection at 5m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 (across meter) =IR = 0.005 x 200 = 1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urrent through 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= 1A - 0.005A = 0.995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= V/I = 1V / 0.995A = 1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3" name=""/>
          <p:cNvGrpSpPr/>
          <p:nvPr/>
        </p:nvGrpSpPr>
        <p:grpSpPr>
          <a:xfrm>
            <a:off x="1968480" y="4178160"/>
            <a:ext cx="4637160" cy="2162160"/>
            <a:chOff x="1968480" y="4178160"/>
            <a:chExt cx="4637160" cy="2162160"/>
          </a:xfrm>
        </p:grpSpPr>
        <p:sp>
          <p:nvSpPr>
            <p:cNvPr id="874" name=""/>
            <p:cNvSpPr/>
            <p:nvPr/>
          </p:nvSpPr>
          <p:spPr>
            <a:xfrm flipH="1">
              <a:off x="1968480" y="6033960"/>
              <a:ext cx="223992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 flipV="1">
              <a:off x="4976640" y="6057360"/>
              <a:ext cx="1629000" cy="9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76" name=""/>
            <p:cNvGrpSpPr/>
            <p:nvPr/>
          </p:nvGrpSpPr>
          <p:grpSpPr>
            <a:xfrm>
              <a:off x="3254400" y="4370400"/>
              <a:ext cx="818640" cy="790200"/>
              <a:chOff x="3254400" y="4370400"/>
              <a:chExt cx="818640" cy="790200"/>
            </a:xfrm>
          </p:grpSpPr>
          <p:sp>
            <p:nvSpPr>
              <p:cNvPr id="877" name=""/>
              <p:cNvSpPr/>
              <p:nvPr/>
            </p:nvSpPr>
            <p:spPr>
              <a:xfrm>
                <a:off x="3254400" y="4370400"/>
                <a:ext cx="790560" cy="790200"/>
              </a:xfrm>
              <a:prstGeom prst="ellipse">
                <a:avLst/>
              </a:prstGeom>
              <a:solidFill>
                <a:srgbClr val="66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3417120" y="4480920"/>
                <a:ext cx="655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G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79" name=""/>
            <p:cNvSpPr/>
            <p:nvPr/>
          </p:nvSpPr>
          <p:spPr>
            <a:xfrm rot="16200000">
              <a:off x="4478760" y="4426200"/>
              <a:ext cx="314280" cy="73512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432240" y="5686560"/>
              <a:ext cx="1515960" cy="65376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 flipV="1">
              <a:off x="2816280" y="4792680"/>
              <a:ext cx="0" cy="1241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816280" y="4792680"/>
              <a:ext cx="449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4030560" y="4778280"/>
              <a:ext cx="217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000400" y="4792680"/>
              <a:ext cx="639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654520" y="4794120"/>
              <a:ext cx="0" cy="1282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811320" y="5761080"/>
              <a:ext cx="1051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4267080" y="4591080"/>
              <a:ext cx="81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0</a:t>
              </a:r>
              <a:r>
                <a:rPr b="0" lang="el-GR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Ω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074760" y="4178160"/>
              <a:ext cx="2239920" cy="12002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719440" y="5506920"/>
              <a:ext cx="193680" cy="1936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968480" y="5411880"/>
              <a:ext cx="68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m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866880" y="274320"/>
            <a:ext cx="620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apacitor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25652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apacitor is a device that can store electric charge and release it later o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consist of two metal plates, separated by an insulating material called 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ielectri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acitors are used f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uning circuits eg rad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ashing circuits eg camera flash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rolling alternating curr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3" name="" descr=""/>
          <p:cNvPicPr/>
          <p:nvPr/>
        </p:nvPicPr>
        <p:blipFill>
          <a:blip r:embed="rId4"/>
          <a:stretch/>
        </p:blipFill>
        <p:spPr>
          <a:xfrm>
            <a:off x="507960" y="138240"/>
            <a:ext cx="1459080" cy="1458720"/>
          </a:xfrm>
          <a:prstGeom prst="rect">
            <a:avLst/>
          </a:prstGeom>
          <a:ln w="0">
            <a:noFill/>
          </a:ln>
        </p:spPr>
      </p:pic>
      <p:pic>
        <p:nvPicPr>
          <p:cNvPr id="894" name="" descr=""/>
          <p:cNvPicPr/>
          <p:nvPr/>
        </p:nvPicPr>
        <p:blipFill>
          <a:blip r:embed="rId5"/>
          <a:stretch/>
        </p:blipFill>
        <p:spPr>
          <a:xfrm>
            <a:off x="6365880" y="3772080"/>
            <a:ext cx="245124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apacitor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661680" y="2104920"/>
            <a:ext cx="815796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several types of capacito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97" name=""/>
          <p:cNvGraphicFramePr/>
          <p:nvPr/>
        </p:nvGraphicFramePr>
        <p:xfrm>
          <a:off x="839880" y="3386160"/>
          <a:ext cx="7072200" cy="2684160"/>
        </p:xfrm>
        <a:graphic>
          <a:graphicData uri="http://schemas.openxmlformats.org/drawingml/2006/table">
            <a:tbl>
              <a:tblPr/>
              <a:tblGrid>
                <a:gridCol w="3516120"/>
                <a:gridCol w="3556080"/>
              </a:tblGrid>
              <a:tr h="8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n-pol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ectrolyti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ria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898" name=""/>
          <p:cNvGrpSpPr/>
          <p:nvPr/>
        </p:nvGrpSpPr>
        <p:grpSpPr>
          <a:xfrm>
            <a:off x="5025960" y="3494160"/>
            <a:ext cx="2074680" cy="647640"/>
            <a:chOff x="5025960" y="3494160"/>
            <a:chExt cx="2074680" cy="647640"/>
          </a:xfrm>
        </p:grpSpPr>
        <p:sp>
          <p:nvSpPr>
            <p:cNvPr id="899" name=""/>
            <p:cNvSpPr/>
            <p:nvPr/>
          </p:nvSpPr>
          <p:spPr>
            <a:xfrm>
              <a:off x="5960880" y="3494160"/>
              <a:ext cx="0" cy="6462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167160" y="3495600"/>
              <a:ext cx="0" cy="6462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165720" y="3827520"/>
              <a:ext cx="934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5025960" y="3819600"/>
              <a:ext cx="934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03" name=""/>
          <p:cNvGrpSpPr/>
          <p:nvPr/>
        </p:nvGrpSpPr>
        <p:grpSpPr>
          <a:xfrm>
            <a:off x="5025960" y="4378320"/>
            <a:ext cx="2074680" cy="658800"/>
            <a:chOff x="5025960" y="4378320"/>
            <a:chExt cx="2074680" cy="658800"/>
          </a:xfrm>
        </p:grpSpPr>
        <p:grpSp>
          <p:nvGrpSpPr>
            <p:cNvPr id="904" name=""/>
            <p:cNvGrpSpPr/>
            <p:nvPr/>
          </p:nvGrpSpPr>
          <p:grpSpPr>
            <a:xfrm>
              <a:off x="5025960" y="4389480"/>
              <a:ext cx="2074680" cy="647640"/>
              <a:chOff x="5025960" y="4389480"/>
              <a:chExt cx="2074680" cy="647640"/>
            </a:xfrm>
          </p:grpSpPr>
          <p:sp>
            <p:nvSpPr>
              <p:cNvPr id="905" name=""/>
              <p:cNvSpPr/>
              <p:nvPr/>
            </p:nvSpPr>
            <p:spPr>
              <a:xfrm>
                <a:off x="5960880" y="4389480"/>
                <a:ext cx="0" cy="64620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6167160" y="4390920"/>
                <a:ext cx="0" cy="64620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6165720" y="4722840"/>
                <a:ext cx="934920" cy="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5025960" y="4714920"/>
                <a:ext cx="934920" cy="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09" name=""/>
            <p:cNvSpPr/>
            <p:nvPr/>
          </p:nvSpPr>
          <p:spPr>
            <a:xfrm>
              <a:off x="5531040" y="4475160"/>
              <a:ext cx="225360" cy="9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350040" y="4476600"/>
              <a:ext cx="225360" cy="9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 flipH="1">
              <a:off x="6445440" y="4378320"/>
              <a:ext cx="9360" cy="214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2" name=""/>
          <p:cNvGrpSpPr/>
          <p:nvPr/>
        </p:nvGrpSpPr>
        <p:grpSpPr>
          <a:xfrm>
            <a:off x="5056200" y="5322960"/>
            <a:ext cx="2074680" cy="647640"/>
            <a:chOff x="5056200" y="5322960"/>
            <a:chExt cx="2074680" cy="647640"/>
          </a:xfrm>
        </p:grpSpPr>
        <p:grpSp>
          <p:nvGrpSpPr>
            <p:cNvPr id="913" name=""/>
            <p:cNvGrpSpPr/>
            <p:nvPr/>
          </p:nvGrpSpPr>
          <p:grpSpPr>
            <a:xfrm>
              <a:off x="5056200" y="5322960"/>
              <a:ext cx="2074680" cy="647640"/>
              <a:chOff x="5056200" y="5322960"/>
              <a:chExt cx="2074680" cy="647640"/>
            </a:xfrm>
          </p:grpSpPr>
          <p:sp>
            <p:nvSpPr>
              <p:cNvPr id="914" name=""/>
              <p:cNvSpPr/>
              <p:nvPr/>
            </p:nvSpPr>
            <p:spPr>
              <a:xfrm>
                <a:off x="5991120" y="5322960"/>
                <a:ext cx="0" cy="64620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6197400" y="5324400"/>
                <a:ext cx="0" cy="64620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6195960" y="5656320"/>
                <a:ext cx="934920" cy="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5056200" y="5648400"/>
                <a:ext cx="934920" cy="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18" name=""/>
            <p:cNvSpPr/>
            <p:nvPr/>
          </p:nvSpPr>
          <p:spPr>
            <a:xfrm flipV="1">
              <a:off x="5743440" y="5387760"/>
              <a:ext cx="729720" cy="506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919" name="" descr=""/>
          <p:cNvPicPr/>
          <p:nvPr/>
        </p:nvPicPr>
        <p:blipFill>
          <a:blip r:embed="rId2"/>
          <a:stretch/>
        </p:blipFill>
        <p:spPr>
          <a:xfrm>
            <a:off x="6294600" y="3016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920" name="" descr=""/>
          <p:cNvPicPr/>
          <p:nvPr/>
        </p:nvPicPr>
        <p:blipFill>
          <a:blip r:embed="rId3"/>
          <a:stretch/>
        </p:blipFill>
        <p:spPr>
          <a:xfrm>
            <a:off x="1217520" y="458640"/>
            <a:ext cx="1719360" cy="12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apacitor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2228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acitors are charged by connecting them to a power supply or batt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causes an accumulation of electrons on one plate (negative) and removal of an equal number of electrons from the other (positiv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3" name="" descr=""/>
          <p:cNvPicPr/>
          <p:nvPr/>
        </p:nvPicPr>
        <p:blipFill>
          <a:blip r:embed="rId3"/>
          <a:stretch/>
        </p:blipFill>
        <p:spPr>
          <a:xfrm>
            <a:off x="5832360" y="2441520"/>
            <a:ext cx="287676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apacitor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a capacitor is fully charg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urrent flow in the circuit s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th plates have equal but opposite amount of charge on 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voltage across the plates equals the supply volt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electric field exists between the plates. The strength of this field is given by: E=V/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Kirchhoff’s Law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rrent Law: The total current entering a junction in a circuit equals the total current leav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1066680" y="3581280"/>
            <a:ext cx="5029200" cy="2057400"/>
            <a:chOff x="1066680" y="3581280"/>
            <a:chExt cx="5029200" cy="2057400"/>
          </a:xfrm>
        </p:grpSpPr>
        <p:sp>
          <p:nvSpPr>
            <p:cNvPr id="519" name=""/>
            <p:cNvSpPr/>
            <p:nvPr/>
          </p:nvSpPr>
          <p:spPr>
            <a:xfrm>
              <a:off x="1066680" y="3733560"/>
              <a:ext cx="5029200" cy="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 flipV="1">
              <a:off x="3429000" y="3733560"/>
              <a:ext cx="0" cy="190512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276360" y="4647960"/>
              <a:ext cx="304920" cy="228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 rot="5400000">
              <a:off x="2018880" y="3619080"/>
              <a:ext cx="304560" cy="228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 rot="5400000">
              <a:off x="4304880" y="3619080"/>
              <a:ext cx="304560" cy="228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676160" y="3962160"/>
              <a:ext cx="914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2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4724280"/>
              <a:ext cx="114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3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190760" y="3962160"/>
              <a:ext cx="13716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5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27" name=""/>
              <p:cNvSpPr txBox="1"/>
              <p:nvPr/>
            </p:nvSpPr>
            <p:spPr>
              <a:xfrm>
                <a:off x="4572000" y="4724280"/>
                <a:ext cx="4038480" cy="13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apacitance C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7036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value of a capacitor is a measure of how much charge it can store per volt applied across the pl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unit for capacitance is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farad 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F=1CV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Most capacitors are much less than 1F in size, it’s a big unit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8" name=""/>
              <p:cNvSpPr txBox="1"/>
              <p:nvPr/>
            </p:nvSpPr>
            <p:spPr>
              <a:xfrm>
                <a:off x="5511960" y="1843200"/>
                <a:ext cx="3039840" cy="26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apacitanc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39080" cy="41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apacitance of a capacitor depends on 3 thing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rea of the plates which overlap (C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  <a:ea typeface="Arial"/>
              </a:rPr>
              <a:t>α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 ie. The more area overlapping, the bigger the 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istance separating the plates (C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  <a:ea typeface="Arial"/>
              </a:rPr>
              <a:t>α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1/d ie. The closer the plates the bigger the 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used as the dielectric material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apacitanc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395000"/>
            <a:ext cx="4038480" cy="14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are summed up in the capacitor construction formul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3" name=""/>
              <p:cNvSpPr txBox="1"/>
              <p:nvPr/>
            </p:nvSpPr>
            <p:spPr>
              <a:xfrm>
                <a:off x="4505400" y="865080"/>
                <a:ext cx="398124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A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34" name=""/>
          <p:cNvSpPr/>
          <p:nvPr/>
        </p:nvSpPr>
        <p:spPr>
          <a:xfrm>
            <a:off x="216000" y="3013200"/>
            <a:ext cx="5851440" cy="32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 Area of overlapping pl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 Distance separating pl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  <a:ea typeface="Arial"/>
              </a:rPr>
              <a:t>ε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 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= Absolute permittivity of fre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pace (!!) – A const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= 8.84x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1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Fm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  <a:ea typeface="Arial"/>
              </a:rPr>
              <a:t>ε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=Dielectric constant (no units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t’s a facto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35" name=""/>
          <p:cNvGraphicFramePr/>
          <p:nvPr/>
        </p:nvGraphicFramePr>
        <p:xfrm>
          <a:off x="6326280" y="3544920"/>
          <a:ext cx="2511360" cy="2278080"/>
        </p:xfrm>
        <a:graphic>
          <a:graphicData uri="http://schemas.openxmlformats.org/drawingml/2006/table">
            <a:tbl>
              <a:tblPr/>
              <a:tblGrid>
                <a:gridCol w="1871640"/>
                <a:gridCol w="639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i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iled pap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lystyren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las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t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6" name=""/>
          <p:cNvSpPr/>
          <p:nvPr/>
        </p:nvSpPr>
        <p:spPr>
          <a:xfrm flipV="1">
            <a:off x="4324320" y="4776840"/>
            <a:ext cx="1916280" cy="582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dfdef6"/>
                </a:solidFill>
                <a:latin typeface="Arial"/>
              </a:rPr>
              <a:t>Charging Capacitor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30280" y="1368000"/>
            <a:ext cx="403848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When the switch is closed, charge begins to build up on the pla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The process continues until the cap has the same voltage across it as the power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9" name=""/>
          <p:cNvGrpSpPr/>
          <p:nvPr/>
        </p:nvGrpSpPr>
        <p:grpSpPr>
          <a:xfrm>
            <a:off x="5024520" y="1883880"/>
            <a:ext cx="3180600" cy="3611160"/>
            <a:chOff x="5024520" y="1883880"/>
            <a:chExt cx="3180600" cy="3611160"/>
          </a:xfrm>
        </p:grpSpPr>
        <p:grpSp>
          <p:nvGrpSpPr>
            <p:cNvPr id="940" name=""/>
            <p:cNvGrpSpPr/>
            <p:nvPr/>
          </p:nvGrpSpPr>
          <p:grpSpPr>
            <a:xfrm>
              <a:off x="5035320" y="3651120"/>
              <a:ext cx="1279080" cy="254520"/>
              <a:chOff x="5035320" y="3651120"/>
              <a:chExt cx="1279080" cy="254520"/>
            </a:xfrm>
          </p:grpSpPr>
          <p:sp>
            <p:nvSpPr>
              <p:cNvPr id="941" name=""/>
              <p:cNvSpPr/>
              <p:nvPr/>
            </p:nvSpPr>
            <p:spPr>
              <a:xfrm>
                <a:off x="5035320" y="3905640"/>
                <a:ext cx="12790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5290920" y="3651120"/>
                <a:ext cx="6393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43" name=""/>
            <p:cNvGrpSpPr/>
            <p:nvPr/>
          </p:nvGrpSpPr>
          <p:grpSpPr>
            <a:xfrm>
              <a:off x="7229880" y="3506040"/>
              <a:ext cx="975240" cy="401760"/>
              <a:chOff x="7229880" y="3506040"/>
              <a:chExt cx="975240" cy="401760"/>
            </a:xfrm>
          </p:grpSpPr>
          <p:sp>
            <p:nvSpPr>
              <p:cNvPr id="944" name=""/>
              <p:cNvSpPr/>
              <p:nvPr/>
            </p:nvSpPr>
            <p:spPr>
              <a:xfrm>
                <a:off x="7229880" y="3506040"/>
                <a:ext cx="9752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7229880" y="3907800"/>
                <a:ext cx="9752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46" name=""/>
            <p:cNvSpPr/>
            <p:nvPr/>
          </p:nvSpPr>
          <p:spPr>
            <a:xfrm flipV="1">
              <a:off x="7732800" y="3903480"/>
              <a:ext cx="0" cy="1591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7718040" y="2202480"/>
              <a:ext cx="19440" cy="1303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48" name=""/>
            <p:cNvGrpSpPr/>
            <p:nvPr/>
          </p:nvGrpSpPr>
          <p:grpSpPr>
            <a:xfrm>
              <a:off x="5149440" y="4139280"/>
              <a:ext cx="325080" cy="357840"/>
              <a:chOff x="5149440" y="4139280"/>
              <a:chExt cx="325080" cy="357840"/>
            </a:xfrm>
          </p:grpSpPr>
          <p:sp>
            <p:nvSpPr>
              <p:cNvPr id="949" name=""/>
              <p:cNvSpPr/>
              <p:nvPr/>
            </p:nvSpPr>
            <p:spPr>
              <a:xfrm>
                <a:off x="5293080" y="4139280"/>
                <a:ext cx="0" cy="3578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5149440" y="4300920"/>
                <a:ext cx="3250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51" name=""/>
            <p:cNvSpPr/>
            <p:nvPr/>
          </p:nvSpPr>
          <p:spPr>
            <a:xfrm>
              <a:off x="5024520" y="3378600"/>
              <a:ext cx="379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 flipV="1">
              <a:off x="5690520" y="2186640"/>
              <a:ext cx="0" cy="1443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5690520" y="2187000"/>
              <a:ext cx="648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5672520" y="3921840"/>
              <a:ext cx="0" cy="1551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5694840" y="5492880"/>
              <a:ext cx="2031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 flipH="1">
              <a:off x="6932520" y="2205000"/>
              <a:ext cx="765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 flipV="1">
              <a:off x="6328080" y="1883880"/>
              <a:ext cx="522720" cy="320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dfdef6"/>
                </a:solidFill>
                <a:latin typeface="Arial"/>
              </a:rPr>
              <a:t>Charging capacitor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752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It’s easy at first because the plates are empty, but as they fill the stored charge starts to repel further charge and the rate decre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4368960" y="1798560"/>
            <a:ext cx="7546320" cy="6154200"/>
            <a:chOff x="4368960" y="1798560"/>
            <a:chExt cx="7546320" cy="6154200"/>
          </a:xfrm>
        </p:grpSpPr>
        <p:sp>
          <p:nvSpPr>
            <p:cNvPr id="961" name=""/>
            <p:cNvSpPr/>
            <p:nvPr/>
          </p:nvSpPr>
          <p:spPr>
            <a:xfrm flipH="1" flipV="1" rot="5400000">
              <a:off x="5790600" y="1828440"/>
              <a:ext cx="5311440" cy="693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4935960" y="5311440"/>
              <a:ext cx="3555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 flipV="1">
              <a:off x="4950000" y="2204280"/>
              <a:ext cx="0" cy="3092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980240" y="2568240"/>
              <a:ext cx="338148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777200" y="1798560"/>
              <a:ext cx="1000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867800" y="5283000"/>
              <a:ext cx="78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368960" y="2422440"/>
              <a:ext cx="1524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NZ" sz="18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dfdef6"/>
                </a:solidFill>
                <a:latin typeface="Arial"/>
              </a:rPr>
              <a:t>Charging Capacitor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8792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As the rate of charge movement decreases, the current flow in the circuit decre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0" name=""/>
          <p:cNvGrpSpPr/>
          <p:nvPr/>
        </p:nvGrpSpPr>
        <p:grpSpPr>
          <a:xfrm>
            <a:off x="4368960" y="-70920"/>
            <a:ext cx="7560000" cy="5753160"/>
            <a:chOff x="4368960" y="-70920"/>
            <a:chExt cx="7560000" cy="5753160"/>
          </a:xfrm>
        </p:grpSpPr>
        <p:sp>
          <p:nvSpPr>
            <p:cNvPr id="971" name=""/>
            <p:cNvSpPr/>
            <p:nvPr/>
          </p:nvSpPr>
          <p:spPr>
            <a:xfrm flipH="1" rot="16200000">
              <a:off x="5804640" y="-883800"/>
              <a:ext cx="5310720" cy="693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935600" y="5311800"/>
              <a:ext cx="3556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 flipV="1">
              <a:off x="4950000" y="2205000"/>
              <a:ext cx="0" cy="3092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4979880" y="2568600"/>
              <a:ext cx="338148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4776840" y="1798560"/>
              <a:ext cx="1000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7867800" y="5283360"/>
              <a:ext cx="78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4368960" y="2422440"/>
              <a:ext cx="1523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NZ" sz="18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dfdef6"/>
                </a:solidFill>
                <a:latin typeface="Arial"/>
              </a:rPr>
              <a:t>Discharging Capacitor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94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The voltage will be at a max to begin with but will drop to zero as charge leaves the pla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0" name=""/>
          <p:cNvGrpSpPr/>
          <p:nvPr/>
        </p:nvGrpSpPr>
        <p:grpSpPr>
          <a:xfrm>
            <a:off x="4498920" y="-84600"/>
            <a:ext cx="7560000" cy="5752440"/>
            <a:chOff x="4498920" y="-84600"/>
            <a:chExt cx="7560000" cy="5752440"/>
          </a:xfrm>
        </p:grpSpPr>
        <p:sp>
          <p:nvSpPr>
            <p:cNvPr id="981" name=""/>
            <p:cNvSpPr/>
            <p:nvPr/>
          </p:nvSpPr>
          <p:spPr>
            <a:xfrm flipH="1" rot="16200000">
              <a:off x="5934960" y="-897840"/>
              <a:ext cx="5310000" cy="693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065560" y="5297400"/>
              <a:ext cx="3556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 flipV="1">
              <a:off x="5079960" y="2190240"/>
              <a:ext cx="0" cy="3092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109840" y="2554200"/>
              <a:ext cx="338148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4906800" y="1784520"/>
              <a:ext cx="1000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7997760" y="5268960"/>
              <a:ext cx="78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498920" y="2408040"/>
              <a:ext cx="1523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NZ" sz="18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dfdef6"/>
                </a:solidFill>
                <a:latin typeface="Arial"/>
              </a:rPr>
              <a:t>Discharging Capacitor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178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The current will be large at first, but decrease as potential left to “push” decre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0" name=""/>
          <p:cNvGrpSpPr/>
          <p:nvPr/>
        </p:nvGrpSpPr>
        <p:grpSpPr>
          <a:xfrm>
            <a:off x="4368960" y="-70920"/>
            <a:ext cx="7560000" cy="5753160"/>
            <a:chOff x="4368960" y="-70920"/>
            <a:chExt cx="7560000" cy="5753160"/>
          </a:xfrm>
        </p:grpSpPr>
        <p:sp>
          <p:nvSpPr>
            <p:cNvPr id="991" name=""/>
            <p:cNvSpPr/>
            <p:nvPr/>
          </p:nvSpPr>
          <p:spPr>
            <a:xfrm flipH="1" rot="16200000">
              <a:off x="5804640" y="-883800"/>
              <a:ext cx="5310720" cy="693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935600" y="5311800"/>
              <a:ext cx="3556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 flipV="1">
              <a:off x="4950000" y="2205000"/>
              <a:ext cx="0" cy="3092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979880" y="2568600"/>
              <a:ext cx="338148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4776840" y="1798560"/>
              <a:ext cx="1000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7867800" y="5283360"/>
              <a:ext cx="78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368960" y="2422440"/>
              <a:ext cx="1523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NZ" sz="18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dfdef6"/>
                </a:solidFill>
                <a:latin typeface="Arial"/>
              </a:rPr>
              <a:t>Charge/Discharge Rat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The rate that a cap will charge or discharge depends on two thing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The size of the capacitor. The bigger the cap, the more charge it can store, so it will take longer to fill/emp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The initial current in the circuit. This is determined by the resistance of the circuit. More R means smaller current, so longer to fill/emp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dfdef6"/>
                </a:solidFill>
                <a:latin typeface="Arial"/>
              </a:rPr>
              <a:t>Time Constan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343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This is defined as the time it takes the voltage/current to rise to 63% of it’s max value or for it to drop 63% from it’s max val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It is calculated using this formul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A cap is considered fully charged or discharged after </a:t>
            </a:r>
            <a:r>
              <a:rPr b="1" lang="en-NZ" sz="2800" spc="-1" strike="noStrike">
                <a:solidFill>
                  <a:srgbClr val="ffffff"/>
                </a:solidFill>
                <a:latin typeface="Arial"/>
              </a:rPr>
              <a:t> 3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time consta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2" name=""/>
              <p:cNvSpPr txBox="1"/>
              <p:nvPr/>
            </p:nvSpPr>
            <p:spPr>
              <a:xfrm>
                <a:off x="3251160" y="3708360"/>
                <a:ext cx="258912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C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Kirchhoff’s Law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ltage Law: The total of all the potential differences around a closed loop in a circuit is ze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609480" y="3200400"/>
            <a:ext cx="3809880" cy="2971800"/>
            <a:chOff x="609480" y="3200400"/>
            <a:chExt cx="3809880" cy="2971800"/>
          </a:xfrm>
        </p:grpSpPr>
        <p:grpSp>
          <p:nvGrpSpPr>
            <p:cNvPr id="531" name=""/>
            <p:cNvGrpSpPr/>
            <p:nvPr/>
          </p:nvGrpSpPr>
          <p:grpSpPr>
            <a:xfrm>
              <a:off x="1447560" y="4572000"/>
              <a:ext cx="761760" cy="152280"/>
              <a:chOff x="1447560" y="4572000"/>
              <a:chExt cx="761760" cy="152280"/>
            </a:xfrm>
          </p:grpSpPr>
          <p:sp>
            <p:nvSpPr>
              <p:cNvPr id="532" name=""/>
              <p:cNvSpPr/>
              <p:nvPr/>
            </p:nvSpPr>
            <p:spPr>
              <a:xfrm>
                <a:off x="1447560" y="4724280"/>
                <a:ext cx="7617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1599840" y="4572000"/>
                <a:ext cx="3808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34" name=""/>
            <p:cNvSpPr/>
            <p:nvPr/>
          </p:nvSpPr>
          <p:spPr>
            <a:xfrm rot="16200000">
              <a:off x="2704680" y="3847680"/>
              <a:ext cx="838080" cy="30492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 rot="16200000">
              <a:off x="2666520" y="5181120"/>
              <a:ext cx="914400" cy="30492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6" name=""/>
            <p:cNvGrpSpPr/>
            <p:nvPr/>
          </p:nvGrpSpPr>
          <p:grpSpPr>
            <a:xfrm>
              <a:off x="609480" y="4419360"/>
              <a:ext cx="533160" cy="533160"/>
              <a:chOff x="609480" y="4419360"/>
              <a:chExt cx="533160" cy="533160"/>
            </a:xfrm>
          </p:grpSpPr>
          <p:sp>
            <p:nvSpPr>
              <p:cNvPr id="537" name=""/>
              <p:cNvSpPr/>
              <p:nvPr/>
            </p:nvSpPr>
            <p:spPr>
              <a:xfrm>
                <a:off x="609480" y="4419360"/>
                <a:ext cx="533160" cy="533160"/>
              </a:xfrm>
              <a:prstGeom prst="ellipse">
                <a:avLst/>
              </a:prstGeom>
              <a:solidFill>
                <a:srgbClr val="66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685440" y="4495320"/>
                <a:ext cx="457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8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39" name=""/>
            <p:cNvGrpSpPr/>
            <p:nvPr/>
          </p:nvGrpSpPr>
          <p:grpSpPr>
            <a:xfrm>
              <a:off x="3809880" y="4952880"/>
              <a:ext cx="533160" cy="533160"/>
              <a:chOff x="3809880" y="4952880"/>
              <a:chExt cx="533160" cy="533160"/>
            </a:xfrm>
          </p:grpSpPr>
          <p:sp>
            <p:nvSpPr>
              <p:cNvPr id="540" name=""/>
              <p:cNvSpPr/>
              <p:nvPr/>
            </p:nvSpPr>
            <p:spPr>
              <a:xfrm>
                <a:off x="3809880" y="4952880"/>
                <a:ext cx="533160" cy="533160"/>
              </a:xfrm>
              <a:prstGeom prst="ellipse">
                <a:avLst/>
              </a:prstGeom>
              <a:solidFill>
                <a:srgbClr val="66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3885840" y="5028840"/>
                <a:ext cx="457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800" spc="-1" strike="noStrike" baseline="-25000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42" name=""/>
            <p:cNvGrpSpPr/>
            <p:nvPr/>
          </p:nvGrpSpPr>
          <p:grpSpPr>
            <a:xfrm>
              <a:off x="3809880" y="3733560"/>
              <a:ext cx="609480" cy="533160"/>
              <a:chOff x="3809880" y="3733560"/>
              <a:chExt cx="609480" cy="533160"/>
            </a:xfrm>
          </p:grpSpPr>
          <p:sp>
            <p:nvSpPr>
              <p:cNvPr id="543" name=""/>
              <p:cNvSpPr/>
              <p:nvPr/>
            </p:nvSpPr>
            <p:spPr>
              <a:xfrm>
                <a:off x="3809880" y="3733560"/>
                <a:ext cx="533160" cy="533160"/>
              </a:xfrm>
              <a:prstGeom prst="ellipse">
                <a:avLst/>
              </a:prstGeom>
              <a:solidFill>
                <a:srgbClr val="66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3885840" y="3809520"/>
                <a:ext cx="5335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8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45" name=""/>
            <p:cNvSpPr/>
            <p:nvPr/>
          </p:nvSpPr>
          <p:spPr>
            <a:xfrm>
              <a:off x="1828440" y="4724280"/>
              <a:ext cx="1295640" cy="1447920"/>
            </a:xfrm>
            <a:custGeom>
              <a:avLst/>
              <a:gdLst/>
              <a:ahLst/>
              <a:rect l="l" t="t" r="r" b="b"/>
              <a:pathLst>
                <a:path w="816" h="912">
                  <a:moveTo>
                    <a:pt x="0" y="0"/>
                  </a:moveTo>
                  <a:lnTo>
                    <a:pt x="0" y="912"/>
                  </a:lnTo>
                  <a:lnTo>
                    <a:pt x="816" y="912"/>
                  </a:lnTo>
                  <a:lnTo>
                    <a:pt x="816" y="672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828440" y="3200400"/>
              <a:ext cx="1295640" cy="1371600"/>
            </a:xfrm>
            <a:custGeom>
              <a:avLst/>
              <a:gdLst/>
              <a:ahLst/>
              <a:rect l="l" t="t" r="r" b="b"/>
              <a:pathLst>
                <a:path w="816" h="864">
                  <a:moveTo>
                    <a:pt x="0" y="864"/>
                  </a:moveTo>
                  <a:lnTo>
                    <a:pt x="0" y="0"/>
                  </a:lnTo>
                  <a:lnTo>
                    <a:pt x="816" y="0"/>
                  </a:lnTo>
                  <a:lnTo>
                    <a:pt x="816" y="24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124080" y="4419360"/>
              <a:ext cx="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838080" y="4952880"/>
              <a:ext cx="990360" cy="457200"/>
            </a:xfrm>
            <a:custGeom>
              <a:avLst/>
              <a:gdLst/>
              <a:ahLst/>
              <a:rect l="l" t="t" r="r" b="b"/>
              <a:pathLst>
                <a:path w="624" h="288">
                  <a:moveTo>
                    <a:pt x="624" y="288"/>
                  </a:moveTo>
                  <a:lnTo>
                    <a:pt x="48" y="288"/>
                  </a:lnTo>
                  <a:lnTo>
                    <a:pt x="0" y="288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838080" y="3886200"/>
              <a:ext cx="990360" cy="533160"/>
            </a:xfrm>
            <a:custGeom>
              <a:avLst/>
              <a:gdLst/>
              <a:ahLst/>
              <a:rect l="l" t="t" r="r" b="b"/>
              <a:pathLst>
                <a:path w="624" h="336">
                  <a:moveTo>
                    <a:pt x="0" y="336"/>
                  </a:moveTo>
                  <a:lnTo>
                    <a:pt x="0" y="0"/>
                  </a:lnTo>
                  <a:lnTo>
                    <a:pt x="624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124080" y="3352680"/>
              <a:ext cx="914400" cy="380880"/>
            </a:xfrm>
            <a:custGeom>
              <a:avLst/>
              <a:gdLst/>
              <a:ahLst/>
              <a:rect l="l" t="t" r="r" b="b"/>
              <a:pathLst>
                <a:path w="576" h="240">
                  <a:moveTo>
                    <a:pt x="576" y="240"/>
                  </a:move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124080" y="4267080"/>
              <a:ext cx="914400" cy="304920"/>
            </a:xfrm>
            <a:custGeom>
              <a:avLst/>
              <a:gdLst/>
              <a:ahLst/>
              <a:rect l="l" t="t" r="r" b="b"/>
              <a:pathLst>
                <a:path w="576" h="144">
                  <a:moveTo>
                    <a:pt x="576" y="0"/>
                  </a:moveTo>
                  <a:lnTo>
                    <a:pt x="576" y="144"/>
                  </a:lnTo>
                  <a:lnTo>
                    <a:pt x="0" y="144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124080" y="4724280"/>
              <a:ext cx="914400" cy="228600"/>
            </a:xfrm>
            <a:custGeom>
              <a:avLst/>
              <a:gdLst/>
              <a:ahLst/>
              <a:rect l="l" t="t" r="r" b="b"/>
              <a:pathLst>
                <a:path w="576" h="144">
                  <a:moveTo>
                    <a:pt x="576" y="144"/>
                  </a:move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124080" y="5486400"/>
              <a:ext cx="914400" cy="457200"/>
            </a:xfrm>
            <a:custGeom>
              <a:avLst/>
              <a:gdLst/>
              <a:ahLst/>
              <a:rect l="l" t="t" r="r" b="b"/>
              <a:pathLst>
                <a:path w="576" h="288">
                  <a:moveTo>
                    <a:pt x="576" y="0"/>
                  </a:moveTo>
                  <a:lnTo>
                    <a:pt x="576" y="288"/>
                  </a:lnTo>
                  <a:lnTo>
                    <a:pt x="0" y="288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54" name=""/>
              <p:cNvSpPr txBox="1"/>
              <p:nvPr/>
            </p:nvSpPr>
            <p:spPr>
              <a:xfrm>
                <a:off x="4724280" y="3505320"/>
                <a:ext cx="4038840" cy="88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apacitor in Seri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ining capacitors in seri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5" name="" descr=""/>
          <p:cNvPicPr/>
          <p:nvPr/>
        </p:nvPicPr>
        <p:blipFill>
          <a:blip r:embed="rId2"/>
          <a:stretch/>
        </p:blipFill>
        <p:spPr>
          <a:xfrm>
            <a:off x="2030400" y="3517920"/>
            <a:ext cx="4906800" cy="2622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06" name=""/>
              <p:cNvSpPr txBox="1"/>
              <p:nvPr/>
            </p:nvSpPr>
            <p:spPr>
              <a:xfrm>
                <a:off x="4713120" y="1498680"/>
                <a:ext cx="3286440" cy="15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/>
          </p:nvPr>
        </p:nvSpPr>
        <p:spPr>
          <a:xfrm>
            <a:off x="554040" y="190080"/>
            <a:ext cx="4038480" cy="32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harge on each cap is the sa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voltage across each cap adds to the supply voltage V=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8" name=""/>
              <p:cNvSpPr txBox="1"/>
              <p:nvPr/>
            </p:nvSpPr>
            <p:spPr>
              <a:xfrm>
                <a:off x="5327640" y="439560"/>
                <a:ext cx="3281400" cy="600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r>
                          <m:t xml:space="preserve">∴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</m:e>
                      <m:e>
                        <m:r>
                          <m:t xml:space="preserve">∴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</m:e>
                      <m:e>
                        <m:r>
                          <m:t xml:space="preserve">∴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</m:e>
                      <m:e>
                        <m:r>
                          <m:t xml:space="preserve">∴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009" name=""/>
          <p:cNvGrpSpPr/>
          <p:nvPr/>
        </p:nvGrpSpPr>
        <p:grpSpPr>
          <a:xfrm>
            <a:off x="503280" y="3533760"/>
            <a:ext cx="3809880" cy="2971800"/>
            <a:chOff x="503280" y="3533760"/>
            <a:chExt cx="3809880" cy="2971800"/>
          </a:xfrm>
        </p:grpSpPr>
        <p:grpSp>
          <p:nvGrpSpPr>
            <p:cNvPr id="1010" name=""/>
            <p:cNvGrpSpPr/>
            <p:nvPr/>
          </p:nvGrpSpPr>
          <p:grpSpPr>
            <a:xfrm>
              <a:off x="1341360" y="4905360"/>
              <a:ext cx="761760" cy="152280"/>
              <a:chOff x="1341360" y="4905360"/>
              <a:chExt cx="761760" cy="152280"/>
            </a:xfrm>
          </p:grpSpPr>
          <p:sp>
            <p:nvSpPr>
              <p:cNvPr id="1011" name=""/>
              <p:cNvSpPr/>
              <p:nvPr/>
            </p:nvSpPr>
            <p:spPr>
              <a:xfrm>
                <a:off x="1341360" y="5057640"/>
                <a:ext cx="7617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1493640" y="4905360"/>
                <a:ext cx="3808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13" name=""/>
            <p:cNvGrpSpPr/>
            <p:nvPr/>
          </p:nvGrpSpPr>
          <p:grpSpPr>
            <a:xfrm>
              <a:off x="503280" y="4752720"/>
              <a:ext cx="533160" cy="533160"/>
              <a:chOff x="503280" y="4752720"/>
              <a:chExt cx="533160" cy="533160"/>
            </a:xfrm>
          </p:grpSpPr>
          <p:sp>
            <p:nvSpPr>
              <p:cNvPr id="1014" name=""/>
              <p:cNvSpPr/>
              <p:nvPr/>
            </p:nvSpPr>
            <p:spPr>
              <a:xfrm>
                <a:off x="503280" y="4752720"/>
                <a:ext cx="533160" cy="533160"/>
              </a:xfrm>
              <a:prstGeom prst="ellipse">
                <a:avLst/>
              </a:prstGeom>
              <a:solidFill>
                <a:srgbClr val="66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579240" y="482868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16" name=""/>
            <p:cNvGrpSpPr/>
            <p:nvPr/>
          </p:nvGrpSpPr>
          <p:grpSpPr>
            <a:xfrm>
              <a:off x="3703680" y="5286240"/>
              <a:ext cx="533160" cy="533160"/>
              <a:chOff x="3703680" y="5286240"/>
              <a:chExt cx="533160" cy="533160"/>
            </a:xfrm>
          </p:grpSpPr>
          <p:sp>
            <p:nvSpPr>
              <p:cNvPr id="1017" name=""/>
              <p:cNvSpPr/>
              <p:nvPr/>
            </p:nvSpPr>
            <p:spPr>
              <a:xfrm>
                <a:off x="3703680" y="5286240"/>
                <a:ext cx="533160" cy="533160"/>
              </a:xfrm>
              <a:prstGeom prst="ellipse">
                <a:avLst/>
              </a:prstGeom>
              <a:solidFill>
                <a:srgbClr val="66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3779640" y="5362200"/>
                <a:ext cx="457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8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19" name=""/>
            <p:cNvGrpSpPr/>
            <p:nvPr/>
          </p:nvGrpSpPr>
          <p:grpSpPr>
            <a:xfrm>
              <a:off x="3703680" y="4066920"/>
              <a:ext cx="609480" cy="533160"/>
              <a:chOff x="3703680" y="4066920"/>
              <a:chExt cx="609480" cy="533160"/>
            </a:xfrm>
          </p:grpSpPr>
          <p:sp>
            <p:nvSpPr>
              <p:cNvPr id="1020" name=""/>
              <p:cNvSpPr/>
              <p:nvPr/>
            </p:nvSpPr>
            <p:spPr>
              <a:xfrm>
                <a:off x="3703680" y="4066920"/>
                <a:ext cx="533160" cy="533160"/>
              </a:xfrm>
              <a:prstGeom prst="ellipse">
                <a:avLst/>
              </a:prstGeom>
              <a:solidFill>
                <a:srgbClr val="66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3779640" y="4142880"/>
                <a:ext cx="5335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8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2" name=""/>
            <p:cNvSpPr/>
            <p:nvPr/>
          </p:nvSpPr>
          <p:spPr>
            <a:xfrm>
              <a:off x="1722600" y="5057640"/>
              <a:ext cx="1295280" cy="1447920"/>
            </a:xfrm>
            <a:custGeom>
              <a:avLst/>
              <a:gdLst/>
              <a:ahLst/>
              <a:rect l="l" t="t" r="r" b="b"/>
              <a:pathLst>
                <a:path w="816" h="912">
                  <a:moveTo>
                    <a:pt x="0" y="0"/>
                  </a:moveTo>
                  <a:lnTo>
                    <a:pt x="0" y="912"/>
                  </a:lnTo>
                  <a:lnTo>
                    <a:pt x="816" y="912"/>
                  </a:lnTo>
                  <a:lnTo>
                    <a:pt x="816" y="672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722600" y="3533760"/>
              <a:ext cx="1295280" cy="1371600"/>
            </a:xfrm>
            <a:custGeom>
              <a:avLst/>
              <a:gdLst/>
              <a:ahLst/>
              <a:rect l="l" t="t" r="r" b="b"/>
              <a:pathLst>
                <a:path w="816" h="864">
                  <a:moveTo>
                    <a:pt x="0" y="864"/>
                  </a:moveTo>
                  <a:lnTo>
                    <a:pt x="0" y="0"/>
                  </a:lnTo>
                  <a:lnTo>
                    <a:pt x="816" y="0"/>
                  </a:lnTo>
                  <a:lnTo>
                    <a:pt x="816" y="24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3017880" y="4387680"/>
              <a:ext cx="11160" cy="1135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731880" y="5286240"/>
              <a:ext cx="990720" cy="457200"/>
            </a:xfrm>
            <a:custGeom>
              <a:avLst/>
              <a:gdLst/>
              <a:ahLst/>
              <a:rect l="l" t="t" r="r" b="b"/>
              <a:pathLst>
                <a:path w="624" h="288">
                  <a:moveTo>
                    <a:pt x="624" y="288"/>
                  </a:moveTo>
                  <a:lnTo>
                    <a:pt x="48" y="288"/>
                  </a:lnTo>
                  <a:lnTo>
                    <a:pt x="0" y="288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731880" y="4219560"/>
              <a:ext cx="990720" cy="533160"/>
            </a:xfrm>
            <a:custGeom>
              <a:avLst/>
              <a:gdLst/>
              <a:ahLst/>
              <a:rect l="l" t="t" r="r" b="b"/>
              <a:pathLst>
                <a:path w="624" h="336">
                  <a:moveTo>
                    <a:pt x="0" y="336"/>
                  </a:moveTo>
                  <a:lnTo>
                    <a:pt x="0" y="0"/>
                  </a:lnTo>
                  <a:lnTo>
                    <a:pt x="624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3017880" y="3686040"/>
              <a:ext cx="914400" cy="380880"/>
            </a:xfrm>
            <a:custGeom>
              <a:avLst/>
              <a:gdLst/>
              <a:ahLst/>
              <a:rect l="l" t="t" r="r" b="b"/>
              <a:pathLst>
                <a:path w="576" h="240">
                  <a:moveTo>
                    <a:pt x="576" y="240"/>
                  </a:move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3017880" y="4600440"/>
              <a:ext cx="914400" cy="304920"/>
            </a:xfrm>
            <a:custGeom>
              <a:avLst/>
              <a:gdLst/>
              <a:ahLst/>
              <a:rect l="l" t="t" r="r" b="b"/>
              <a:pathLst>
                <a:path w="576" h="144">
                  <a:moveTo>
                    <a:pt x="576" y="0"/>
                  </a:moveTo>
                  <a:lnTo>
                    <a:pt x="576" y="144"/>
                  </a:lnTo>
                  <a:lnTo>
                    <a:pt x="0" y="144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3017880" y="5057640"/>
              <a:ext cx="914400" cy="228600"/>
            </a:xfrm>
            <a:custGeom>
              <a:avLst/>
              <a:gdLst/>
              <a:ahLst/>
              <a:rect l="l" t="t" r="r" b="b"/>
              <a:pathLst>
                <a:path w="576" h="144">
                  <a:moveTo>
                    <a:pt x="576" y="144"/>
                  </a:move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3017880" y="5819760"/>
              <a:ext cx="914400" cy="457200"/>
            </a:xfrm>
            <a:custGeom>
              <a:avLst/>
              <a:gdLst/>
              <a:ahLst/>
              <a:rect l="l" t="t" r="r" b="b"/>
              <a:pathLst>
                <a:path w="576" h="288">
                  <a:moveTo>
                    <a:pt x="576" y="0"/>
                  </a:moveTo>
                  <a:lnTo>
                    <a:pt x="576" y="288"/>
                  </a:lnTo>
                  <a:lnTo>
                    <a:pt x="0" y="288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31" name=""/>
            <p:cNvGrpSpPr/>
            <p:nvPr/>
          </p:nvGrpSpPr>
          <p:grpSpPr>
            <a:xfrm>
              <a:off x="2733840" y="4141800"/>
              <a:ext cx="581040" cy="239760"/>
              <a:chOff x="2733840" y="4141800"/>
              <a:chExt cx="581040" cy="239760"/>
            </a:xfrm>
          </p:grpSpPr>
          <p:sp>
            <p:nvSpPr>
              <p:cNvPr id="1032" name=""/>
              <p:cNvSpPr/>
              <p:nvPr/>
            </p:nvSpPr>
            <p:spPr>
              <a:xfrm>
                <a:off x="2733840" y="4141800"/>
                <a:ext cx="5810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2733840" y="4381560"/>
                <a:ext cx="5810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34" name=""/>
            <p:cNvGrpSpPr/>
            <p:nvPr/>
          </p:nvGrpSpPr>
          <p:grpSpPr>
            <a:xfrm>
              <a:off x="2735280" y="5521320"/>
              <a:ext cx="581040" cy="239760"/>
              <a:chOff x="2735280" y="5521320"/>
              <a:chExt cx="581040" cy="239760"/>
            </a:xfrm>
          </p:grpSpPr>
          <p:sp>
            <p:nvSpPr>
              <p:cNvPr id="1035" name=""/>
              <p:cNvSpPr/>
              <p:nvPr/>
            </p:nvSpPr>
            <p:spPr>
              <a:xfrm>
                <a:off x="2735280" y="5521320"/>
                <a:ext cx="5810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2735280" y="5761080"/>
                <a:ext cx="5810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37" name=""/>
            <p:cNvSpPr/>
            <p:nvPr/>
          </p:nvSpPr>
          <p:spPr>
            <a:xfrm flipV="1">
              <a:off x="3013200" y="5754600"/>
              <a:ext cx="0" cy="35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3013200" y="3903480"/>
              <a:ext cx="0" cy="238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39" name=""/>
            <p:cNvGrpSpPr/>
            <p:nvPr/>
          </p:nvGrpSpPr>
          <p:grpSpPr>
            <a:xfrm>
              <a:off x="1409760" y="5195880"/>
              <a:ext cx="193680" cy="214200"/>
              <a:chOff x="1409760" y="5195880"/>
              <a:chExt cx="193680" cy="214200"/>
            </a:xfrm>
          </p:grpSpPr>
          <p:sp>
            <p:nvSpPr>
              <p:cNvPr id="1040" name=""/>
              <p:cNvSpPr/>
              <p:nvPr/>
            </p:nvSpPr>
            <p:spPr>
              <a:xfrm>
                <a:off x="1495440" y="5195880"/>
                <a:ext cx="0" cy="214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1409760" y="5292720"/>
                <a:ext cx="1936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42" name=""/>
            <p:cNvSpPr/>
            <p:nvPr/>
          </p:nvSpPr>
          <p:spPr>
            <a:xfrm>
              <a:off x="1335240" y="4743360"/>
              <a:ext cx="225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428920" y="5689440"/>
              <a:ext cx="646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+Q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444760" y="4357440"/>
              <a:ext cx="61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+Q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486160" y="5162400"/>
              <a:ext cx="50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-Q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498760" y="3767040"/>
              <a:ext cx="50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-Q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apacitor Network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ining capacitors in paralle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9" name="" descr=""/>
          <p:cNvPicPr/>
          <p:nvPr/>
        </p:nvPicPr>
        <p:blipFill>
          <a:blip r:embed="rId2"/>
          <a:stretch/>
        </p:blipFill>
        <p:spPr>
          <a:xfrm>
            <a:off x="1762200" y="3006720"/>
            <a:ext cx="5402160" cy="2887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50" name=""/>
              <p:cNvSpPr txBox="1"/>
              <p:nvPr/>
            </p:nvSpPr>
            <p:spPr>
              <a:xfrm>
                <a:off x="4788000" y="1733400"/>
                <a:ext cx="328608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14000" y="426960"/>
            <a:ext cx="5297400" cy="28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voltage across each cap is the same as the supp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otal charge stored is the sum of the charge in each cap. Q=Q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 Q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2" name=""/>
              <p:cNvSpPr txBox="1"/>
              <p:nvPr/>
            </p:nvSpPr>
            <p:spPr>
              <a:xfrm>
                <a:off x="5965920" y="282600"/>
                <a:ext cx="2628720" cy="475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053" name=""/>
          <p:cNvGrpSpPr/>
          <p:nvPr/>
        </p:nvGrpSpPr>
        <p:grpSpPr>
          <a:xfrm>
            <a:off x="503280" y="3614760"/>
            <a:ext cx="4545360" cy="2388600"/>
            <a:chOff x="503280" y="3614760"/>
            <a:chExt cx="4545360" cy="2388600"/>
          </a:xfrm>
        </p:grpSpPr>
        <p:grpSp>
          <p:nvGrpSpPr>
            <p:cNvPr id="1054" name=""/>
            <p:cNvGrpSpPr/>
            <p:nvPr/>
          </p:nvGrpSpPr>
          <p:grpSpPr>
            <a:xfrm>
              <a:off x="1519200" y="4671360"/>
              <a:ext cx="923400" cy="183960"/>
              <a:chOff x="1519200" y="4671360"/>
              <a:chExt cx="923400" cy="183960"/>
            </a:xfrm>
          </p:grpSpPr>
          <p:sp>
            <p:nvSpPr>
              <p:cNvPr id="1055" name=""/>
              <p:cNvSpPr/>
              <p:nvPr/>
            </p:nvSpPr>
            <p:spPr>
              <a:xfrm>
                <a:off x="1519200" y="4855320"/>
                <a:ext cx="923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1703520" y="4671360"/>
                <a:ext cx="4615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57" name=""/>
            <p:cNvGrpSpPr/>
            <p:nvPr/>
          </p:nvGrpSpPr>
          <p:grpSpPr>
            <a:xfrm>
              <a:off x="503280" y="4486680"/>
              <a:ext cx="646200" cy="645840"/>
              <a:chOff x="503280" y="4486680"/>
              <a:chExt cx="646200" cy="645840"/>
            </a:xfrm>
          </p:grpSpPr>
          <p:sp>
            <p:nvSpPr>
              <p:cNvPr id="1058" name=""/>
              <p:cNvSpPr/>
              <p:nvPr/>
            </p:nvSpPr>
            <p:spPr>
              <a:xfrm>
                <a:off x="503280" y="4486680"/>
                <a:ext cx="646200" cy="645840"/>
              </a:xfrm>
              <a:prstGeom prst="ellipse">
                <a:avLst/>
              </a:prstGeom>
              <a:solidFill>
                <a:srgbClr val="66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595080" y="4578480"/>
                <a:ext cx="554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60" name=""/>
            <p:cNvSpPr/>
            <p:nvPr/>
          </p:nvSpPr>
          <p:spPr>
            <a:xfrm>
              <a:off x="780120" y="5133240"/>
              <a:ext cx="1200960" cy="554400"/>
            </a:xfrm>
            <a:custGeom>
              <a:avLst/>
              <a:gdLst/>
              <a:ahLst/>
              <a:rect l="l" t="t" r="r" b="b"/>
              <a:pathLst>
                <a:path w="624" h="288">
                  <a:moveTo>
                    <a:pt x="624" y="288"/>
                  </a:moveTo>
                  <a:lnTo>
                    <a:pt x="48" y="288"/>
                  </a:lnTo>
                  <a:lnTo>
                    <a:pt x="0" y="288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780120" y="3839760"/>
              <a:ext cx="1200960" cy="646920"/>
            </a:xfrm>
            <a:custGeom>
              <a:avLst/>
              <a:gdLst/>
              <a:ahLst/>
              <a:rect l="l" t="t" r="r" b="b"/>
              <a:pathLst>
                <a:path w="624" h="336">
                  <a:moveTo>
                    <a:pt x="0" y="336"/>
                  </a:moveTo>
                  <a:lnTo>
                    <a:pt x="0" y="0"/>
                  </a:lnTo>
                  <a:lnTo>
                    <a:pt x="624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62" name=""/>
            <p:cNvGrpSpPr/>
            <p:nvPr/>
          </p:nvGrpSpPr>
          <p:grpSpPr>
            <a:xfrm>
              <a:off x="3103200" y="4567680"/>
              <a:ext cx="703800" cy="290160"/>
              <a:chOff x="3103200" y="4567680"/>
              <a:chExt cx="703800" cy="290160"/>
            </a:xfrm>
          </p:grpSpPr>
          <p:sp>
            <p:nvSpPr>
              <p:cNvPr id="1063" name=""/>
              <p:cNvSpPr/>
              <p:nvPr/>
            </p:nvSpPr>
            <p:spPr>
              <a:xfrm>
                <a:off x="3103200" y="4567680"/>
                <a:ext cx="7038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3103200" y="4857840"/>
                <a:ext cx="7038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65" name=""/>
            <p:cNvGrpSpPr/>
            <p:nvPr/>
          </p:nvGrpSpPr>
          <p:grpSpPr>
            <a:xfrm>
              <a:off x="4344840" y="4557960"/>
              <a:ext cx="703800" cy="290160"/>
              <a:chOff x="4344840" y="4557960"/>
              <a:chExt cx="703800" cy="290160"/>
            </a:xfrm>
          </p:grpSpPr>
          <p:sp>
            <p:nvSpPr>
              <p:cNvPr id="1066" name=""/>
              <p:cNvSpPr/>
              <p:nvPr/>
            </p:nvSpPr>
            <p:spPr>
              <a:xfrm>
                <a:off x="4344840" y="4557960"/>
                <a:ext cx="7038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4344840" y="4848120"/>
                <a:ext cx="7038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68" name=""/>
            <p:cNvSpPr/>
            <p:nvPr/>
          </p:nvSpPr>
          <p:spPr>
            <a:xfrm flipV="1">
              <a:off x="3467160" y="4854240"/>
              <a:ext cx="0" cy="1149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3455280" y="3626280"/>
              <a:ext cx="13320" cy="941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0" name=""/>
            <p:cNvGrpSpPr/>
            <p:nvPr/>
          </p:nvGrpSpPr>
          <p:grpSpPr>
            <a:xfrm>
              <a:off x="1602000" y="5023800"/>
              <a:ext cx="234360" cy="259200"/>
              <a:chOff x="1602000" y="5023800"/>
              <a:chExt cx="234360" cy="259200"/>
            </a:xfrm>
          </p:grpSpPr>
          <p:sp>
            <p:nvSpPr>
              <p:cNvPr id="1071" name=""/>
              <p:cNvSpPr/>
              <p:nvPr/>
            </p:nvSpPr>
            <p:spPr>
              <a:xfrm>
                <a:off x="1705680" y="5023800"/>
                <a:ext cx="0" cy="259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1602000" y="5140800"/>
                <a:ext cx="2343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73" name=""/>
            <p:cNvSpPr/>
            <p:nvPr/>
          </p:nvSpPr>
          <p:spPr>
            <a:xfrm>
              <a:off x="1511640" y="4475160"/>
              <a:ext cx="272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4009680" y="4890960"/>
              <a:ext cx="783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2841840" y="4902480"/>
              <a:ext cx="611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 flipV="1">
              <a:off x="1992960" y="3614760"/>
              <a:ext cx="0" cy="104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1992960" y="3614760"/>
              <a:ext cx="2673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656600" y="3616920"/>
              <a:ext cx="13320" cy="941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979280" y="4867920"/>
              <a:ext cx="0" cy="1119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1965600" y="5988240"/>
              <a:ext cx="2686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 flipV="1">
              <a:off x="4654800" y="4842720"/>
              <a:ext cx="0" cy="1148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82" name=""/>
          <p:cNvSpPr/>
          <p:nvPr/>
        </p:nvSpPr>
        <p:spPr>
          <a:xfrm>
            <a:off x="1549440" y="6216480"/>
            <a:ext cx="587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NB. This is the opposite way round to resistor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Energy in Capacitor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10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pacitors store energy as electric potential energ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mount they store is half of the energy supplied by the battery. (The other half is dissipated as heat in the resistance of the circui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a capacitor discharges, the energy is dissipated in the resistance of the circuit as heat, light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Energy in Capacitor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a cell: Each coulomb of charge gains V Joules of energ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the energy provided by the cell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=VQ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87" name=""/>
          <p:cNvGrpSpPr/>
          <p:nvPr/>
        </p:nvGrpSpPr>
        <p:grpSpPr>
          <a:xfrm>
            <a:off x="4581360" y="1740960"/>
            <a:ext cx="4101120" cy="3556080"/>
            <a:chOff x="4581360" y="1740960"/>
            <a:chExt cx="4101120" cy="3556080"/>
          </a:xfrm>
        </p:grpSpPr>
        <p:grpSp>
          <p:nvGrpSpPr>
            <p:cNvPr id="1088" name=""/>
            <p:cNvGrpSpPr/>
            <p:nvPr/>
          </p:nvGrpSpPr>
          <p:grpSpPr>
            <a:xfrm>
              <a:off x="4581360" y="1740960"/>
              <a:ext cx="4101120" cy="3556080"/>
              <a:chOff x="4581360" y="1740960"/>
              <a:chExt cx="4101120" cy="3556080"/>
            </a:xfrm>
          </p:grpSpPr>
          <p:sp>
            <p:nvSpPr>
              <p:cNvPr id="1089" name=""/>
              <p:cNvSpPr/>
              <p:nvPr/>
            </p:nvSpPr>
            <p:spPr>
              <a:xfrm>
                <a:off x="4988880" y="4939920"/>
                <a:ext cx="33696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 flipV="1">
                <a:off x="4988880" y="1740960"/>
                <a:ext cx="0" cy="31986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4581360" y="1865520"/>
                <a:ext cx="590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7779960" y="4898160"/>
                <a:ext cx="902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Q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93" name=""/>
            <p:cNvSpPr/>
            <p:nvPr/>
          </p:nvSpPr>
          <p:spPr>
            <a:xfrm>
              <a:off x="4976640" y="2641680"/>
              <a:ext cx="3130200" cy="22982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5271840" y="3107520"/>
              <a:ext cx="242316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Δ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E= are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=VQ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Energy in Capacitor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31496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a capacitor: voltage increases gradually as cap charges until it equals the cell volt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the energy stored by the capacitor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=1/2VQ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7" name=""/>
          <p:cNvGrpSpPr/>
          <p:nvPr/>
        </p:nvGrpSpPr>
        <p:grpSpPr>
          <a:xfrm>
            <a:off x="4660920" y="1666800"/>
            <a:ext cx="4084200" cy="3470400"/>
            <a:chOff x="4660920" y="1666800"/>
            <a:chExt cx="4084200" cy="3470400"/>
          </a:xfrm>
        </p:grpSpPr>
        <p:grpSp>
          <p:nvGrpSpPr>
            <p:cNvPr id="1098" name=""/>
            <p:cNvGrpSpPr/>
            <p:nvPr/>
          </p:nvGrpSpPr>
          <p:grpSpPr>
            <a:xfrm>
              <a:off x="4660920" y="1666800"/>
              <a:ext cx="3990240" cy="3470400"/>
              <a:chOff x="4660920" y="1666800"/>
              <a:chExt cx="3990240" cy="3470400"/>
            </a:xfrm>
          </p:grpSpPr>
          <p:sp>
            <p:nvSpPr>
              <p:cNvPr id="1099" name=""/>
              <p:cNvSpPr/>
              <p:nvPr/>
            </p:nvSpPr>
            <p:spPr>
              <a:xfrm>
                <a:off x="5057280" y="4778640"/>
                <a:ext cx="32785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 flipV="1">
                <a:off x="5057280" y="1666800"/>
                <a:ext cx="0" cy="31118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4660920" y="1787760"/>
                <a:ext cx="574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7773120" y="4738320"/>
                <a:ext cx="878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Q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03" name=""/>
            <p:cNvSpPr/>
            <p:nvPr/>
          </p:nvSpPr>
          <p:spPr>
            <a:xfrm flipH="1">
              <a:off x="5085000" y="2661840"/>
              <a:ext cx="2961000" cy="2110680"/>
            </a:xfrm>
            <a:prstGeom prst="rtTriangle">
              <a:avLst/>
            </a:prstGeom>
            <a:solidFill>
              <a:srgbClr val="cc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H="1">
              <a:off x="5056920" y="2664360"/>
              <a:ext cx="296100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6140160" y="3763080"/>
              <a:ext cx="260496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000000"/>
                  </a:solidFill>
                  <a:latin typeface="Arial"/>
                </a:rPr>
                <a:t>Δ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= are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½ VQ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Energy in Capacitor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5184720" cy="51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rearrangement and substitution puts this equation into a familiar form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f.  the formula for kinetic energy E=1/2mv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f.  the formula for elastic potential energy E=1/2kx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8" name=""/>
              <p:cNvSpPr txBox="1"/>
              <p:nvPr/>
            </p:nvSpPr>
            <p:spPr>
              <a:xfrm>
                <a:off x="6176880" y="1224000"/>
                <a:ext cx="2816280" cy="490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QV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ut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o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09" name=""/>
          <p:cNvSpPr/>
          <p:nvPr/>
        </p:nvSpPr>
        <p:spPr>
          <a:xfrm>
            <a:off x="5099040" y="2752560"/>
            <a:ext cx="1108080" cy="263700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Kirchhoff’s Law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voltage sourc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ing from + to – represents a loss of energy so potential difference is nega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ing from – to + represents a gain in energy so potential difference is po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1981080" y="4190760"/>
            <a:ext cx="4723920" cy="1981440"/>
            <a:chOff x="1981080" y="4190760"/>
            <a:chExt cx="4723920" cy="1981440"/>
          </a:xfrm>
        </p:grpSpPr>
        <p:grpSp>
          <p:nvGrpSpPr>
            <p:cNvPr id="558" name=""/>
            <p:cNvGrpSpPr/>
            <p:nvPr/>
          </p:nvGrpSpPr>
          <p:grpSpPr>
            <a:xfrm>
              <a:off x="1981080" y="4267080"/>
              <a:ext cx="2057400" cy="1905120"/>
              <a:chOff x="1981080" y="4267080"/>
              <a:chExt cx="2057400" cy="1905120"/>
            </a:xfrm>
          </p:grpSpPr>
          <p:grpSp>
            <p:nvGrpSpPr>
              <p:cNvPr id="559" name=""/>
              <p:cNvGrpSpPr/>
              <p:nvPr/>
            </p:nvGrpSpPr>
            <p:grpSpPr>
              <a:xfrm>
                <a:off x="3048120" y="4267080"/>
                <a:ext cx="990360" cy="1905120"/>
                <a:chOff x="3048120" y="4267080"/>
                <a:chExt cx="990360" cy="1905120"/>
              </a:xfrm>
            </p:grpSpPr>
            <p:grpSp>
              <p:nvGrpSpPr>
                <p:cNvPr id="560" name=""/>
                <p:cNvGrpSpPr/>
                <p:nvPr/>
              </p:nvGrpSpPr>
              <p:grpSpPr>
                <a:xfrm>
                  <a:off x="3048120" y="4724280"/>
                  <a:ext cx="990360" cy="1143000"/>
                  <a:chOff x="3048120" y="4724280"/>
                  <a:chExt cx="990360" cy="1143000"/>
                </a:xfrm>
              </p:grpSpPr>
              <p:grpSp>
                <p:nvGrpSpPr>
                  <p:cNvPr id="561" name=""/>
                  <p:cNvGrpSpPr/>
                  <p:nvPr/>
                </p:nvGrpSpPr>
                <p:grpSpPr>
                  <a:xfrm>
                    <a:off x="3048120" y="4724280"/>
                    <a:ext cx="990360" cy="228600"/>
                    <a:chOff x="3048120" y="4724280"/>
                    <a:chExt cx="990360" cy="228600"/>
                  </a:xfrm>
                </p:grpSpPr>
                <p:sp>
                  <p:nvSpPr>
                    <p:cNvPr id="562" name=""/>
                    <p:cNvSpPr/>
                    <p:nvPr/>
                  </p:nvSpPr>
                  <p:spPr>
                    <a:xfrm>
                      <a:off x="3048120" y="4724280"/>
                      <a:ext cx="990360" cy="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3" name=""/>
                    <p:cNvSpPr/>
                    <p:nvPr/>
                  </p:nvSpPr>
                  <p:spPr>
                    <a:xfrm>
                      <a:off x="3276360" y="4952880"/>
                      <a:ext cx="533160" cy="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4" name=""/>
                  <p:cNvGrpSpPr/>
                  <p:nvPr/>
                </p:nvGrpSpPr>
                <p:grpSpPr>
                  <a:xfrm>
                    <a:off x="3048120" y="5181480"/>
                    <a:ext cx="990360" cy="228600"/>
                    <a:chOff x="3048120" y="5181480"/>
                    <a:chExt cx="990360" cy="228600"/>
                  </a:xfrm>
                </p:grpSpPr>
                <p:sp>
                  <p:nvSpPr>
                    <p:cNvPr id="565" name=""/>
                    <p:cNvSpPr/>
                    <p:nvPr/>
                  </p:nvSpPr>
                  <p:spPr>
                    <a:xfrm>
                      <a:off x="3048120" y="5181480"/>
                      <a:ext cx="990360" cy="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6" name=""/>
                    <p:cNvSpPr/>
                    <p:nvPr/>
                  </p:nvSpPr>
                  <p:spPr>
                    <a:xfrm>
                      <a:off x="3276360" y="5410080"/>
                      <a:ext cx="533160" cy="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7" name=""/>
                  <p:cNvGrpSpPr/>
                  <p:nvPr/>
                </p:nvGrpSpPr>
                <p:grpSpPr>
                  <a:xfrm>
                    <a:off x="3048120" y="5638680"/>
                    <a:ext cx="990360" cy="228600"/>
                    <a:chOff x="3048120" y="5638680"/>
                    <a:chExt cx="990360" cy="228600"/>
                  </a:xfrm>
                </p:grpSpPr>
                <p:sp>
                  <p:nvSpPr>
                    <p:cNvPr id="568" name=""/>
                    <p:cNvSpPr/>
                    <p:nvPr/>
                  </p:nvSpPr>
                  <p:spPr>
                    <a:xfrm>
                      <a:off x="3048120" y="5638680"/>
                      <a:ext cx="990360" cy="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9" name=""/>
                    <p:cNvSpPr/>
                    <p:nvPr/>
                  </p:nvSpPr>
                  <p:spPr>
                    <a:xfrm>
                      <a:off x="3276360" y="5867280"/>
                      <a:ext cx="533160" cy="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570" name=""/>
                <p:cNvSpPr/>
                <p:nvPr/>
              </p:nvSpPr>
              <p:spPr>
                <a:xfrm flipV="1">
                  <a:off x="3581280" y="4267080"/>
                  <a:ext cx="0" cy="4572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3581280" y="5867280"/>
                  <a:ext cx="0" cy="3049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2" name=""/>
              <p:cNvSpPr/>
              <p:nvPr/>
            </p:nvSpPr>
            <p:spPr>
              <a:xfrm flipV="1">
                <a:off x="2819520" y="4572000"/>
                <a:ext cx="0" cy="1295280"/>
              </a:xfrm>
              <a:prstGeom prst="line">
                <a:avLst/>
              </a:prstGeom>
              <a:ln w="15840">
                <a:solidFill>
                  <a:srgbClr val="ffffff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981080" y="495288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+V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4952880" y="4190760"/>
              <a:ext cx="1752120" cy="1904760"/>
              <a:chOff x="4952880" y="4190760"/>
              <a:chExt cx="1752120" cy="1904760"/>
            </a:xfrm>
          </p:grpSpPr>
          <p:grpSp>
            <p:nvGrpSpPr>
              <p:cNvPr id="575" name=""/>
              <p:cNvGrpSpPr/>
              <p:nvPr/>
            </p:nvGrpSpPr>
            <p:grpSpPr>
              <a:xfrm>
                <a:off x="5714640" y="4190760"/>
                <a:ext cx="990360" cy="1904760"/>
                <a:chOff x="5714640" y="4190760"/>
                <a:chExt cx="990360" cy="1904760"/>
              </a:xfrm>
            </p:grpSpPr>
            <p:grpSp>
              <p:nvGrpSpPr>
                <p:cNvPr id="576" name=""/>
                <p:cNvGrpSpPr/>
                <p:nvPr/>
              </p:nvGrpSpPr>
              <p:grpSpPr>
                <a:xfrm>
                  <a:off x="5714640" y="4647960"/>
                  <a:ext cx="990360" cy="1142280"/>
                  <a:chOff x="5714640" y="4647960"/>
                  <a:chExt cx="990360" cy="1142280"/>
                </a:xfrm>
              </p:grpSpPr>
              <p:grpSp>
                <p:nvGrpSpPr>
                  <p:cNvPr id="577" name=""/>
                  <p:cNvGrpSpPr/>
                  <p:nvPr/>
                </p:nvGrpSpPr>
                <p:grpSpPr>
                  <a:xfrm>
                    <a:off x="5714640" y="4647960"/>
                    <a:ext cx="990360" cy="228240"/>
                    <a:chOff x="5714640" y="4647960"/>
                    <a:chExt cx="990360" cy="228240"/>
                  </a:xfrm>
                </p:grpSpPr>
                <p:sp>
                  <p:nvSpPr>
                    <p:cNvPr id="578" name=""/>
                    <p:cNvSpPr/>
                    <p:nvPr/>
                  </p:nvSpPr>
                  <p:spPr>
                    <a:xfrm>
                      <a:off x="5714640" y="4647960"/>
                      <a:ext cx="990360" cy="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9" name=""/>
                    <p:cNvSpPr/>
                    <p:nvPr/>
                  </p:nvSpPr>
                  <p:spPr>
                    <a:xfrm>
                      <a:off x="5942880" y="4876200"/>
                      <a:ext cx="533160" cy="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0" name=""/>
                  <p:cNvGrpSpPr/>
                  <p:nvPr/>
                </p:nvGrpSpPr>
                <p:grpSpPr>
                  <a:xfrm>
                    <a:off x="5714640" y="5104800"/>
                    <a:ext cx="990360" cy="228240"/>
                    <a:chOff x="5714640" y="5104800"/>
                    <a:chExt cx="990360" cy="228240"/>
                  </a:xfrm>
                </p:grpSpPr>
                <p:sp>
                  <p:nvSpPr>
                    <p:cNvPr id="581" name=""/>
                    <p:cNvSpPr/>
                    <p:nvPr/>
                  </p:nvSpPr>
                  <p:spPr>
                    <a:xfrm>
                      <a:off x="5714640" y="5104800"/>
                      <a:ext cx="990360" cy="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2" name=""/>
                    <p:cNvSpPr/>
                    <p:nvPr/>
                  </p:nvSpPr>
                  <p:spPr>
                    <a:xfrm>
                      <a:off x="5942880" y="5333040"/>
                      <a:ext cx="533160" cy="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3" name=""/>
                  <p:cNvGrpSpPr/>
                  <p:nvPr/>
                </p:nvGrpSpPr>
                <p:grpSpPr>
                  <a:xfrm>
                    <a:off x="5714640" y="5562000"/>
                    <a:ext cx="990360" cy="228240"/>
                    <a:chOff x="5714640" y="5562000"/>
                    <a:chExt cx="990360" cy="228240"/>
                  </a:xfrm>
                </p:grpSpPr>
                <p:sp>
                  <p:nvSpPr>
                    <p:cNvPr id="584" name=""/>
                    <p:cNvSpPr/>
                    <p:nvPr/>
                  </p:nvSpPr>
                  <p:spPr>
                    <a:xfrm>
                      <a:off x="5714640" y="5562000"/>
                      <a:ext cx="990360" cy="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5" name=""/>
                    <p:cNvSpPr/>
                    <p:nvPr/>
                  </p:nvSpPr>
                  <p:spPr>
                    <a:xfrm>
                      <a:off x="5942880" y="5790240"/>
                      <a:ext cx="533160" cy="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586" name=""/>
                <p:cNvSpPr/>
                <p:nvPr/>
              </p:nvSpPr>
              <p:spPr>
                <a:xfrm flipV="1">
                  <a:off x="6247800" y="4190760"/>
                  <a:ext cx="0" cy="4568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6247800" y="5790960"/>
                  <a:ext cx="0" cy="3045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8" name=""/>
              <p:cNvSpPr/>
              <p:nvPr/>
            </p:nvSpPr>
            <p:spPr>
              <a:xfrm>
                <a:off x="5562360" y="4647960"/>
                <a:ext cx="0" cy="1295280"/>
              </a:xfrm>
              <a:prstGeom prst="line">
                <a:avLst/>
              </a:prstGeom>
              <a:ln w="15840">
                <a:solidFill>
                  <a:srgbClr val="ffffff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952880" y="487656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-V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Kirchhoff’s Law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resistor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sing in the same direction as the current represents a loss of energy -V=-(I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sing in the opposite direction to the current represents a gain in energy +V=+(I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1506600" y="4190760"/>
            <a:ext cx="5281560" cy="2060640"/>
            <a:chOff x="1506600" y="4190760"/>
            <a:chExt cx="5281560" cy="2060640"/>
          </a:xfrm>
        </p:grpSpPr>
        <p:grpSp>
          <p:nvGrpSpPr>
            <p:cNvPr id="593" name=""/>
            <p:cNvGrpSpPr/>
            <p:nvPr/>
          </p:nvGrpSpPr>
          <p:grpSpPr>
            <a:xfrm>
              <a:off x="2743200" y="4190760"/>
              <a:ext cx="698400" cy="2005200"/>
              <a:chOff x="2743200" y="4190760"/>
              <a:chExt cx="698400" cy="2005200"/>
            </a:xfrm>
          </p:grpSpPr>
          <p:sp>
            <p:nvSpPr>
              <p:cNvPr id="594" name=""/>
              <p:cNvSpPr/>
              <p:nvPr/>
            </p:nvSpPr>
            <p:spPr>
              <a:xfrm>
                <a:off x="2743200" y="4800600"/>
                <a:ext cx="380880" cy="91440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flipV="1">
                <a:off x="2940120" y="4190760"/>
                <a:ext cx="0" cy="60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2968560" y="5722920"/>
                <a:ext cx="0" cy="4730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2903400" y="5873760"/>
                <a:ext cx="119160" cy="149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3076560" y="5808600"/>
                <a:ext cx="36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I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6089760" y="4246200"/>
              <a:ext cx="698400" cy="2005200"/>
              <a:chOff x="6089760" y="4246200"/>
              <a:chExt cx="698400" cy="2005200"/>
            </a:xfrm>
          </p:grpSpPr>
          <p:sp>
            <p:nvSpPr>
              <p:cNvPr id="600" name=""/>
              <p:cNvSpPr/>
              <p:nvPr/>
            </p:nvSpPr>
            <p:spPr>
              <a:xfrm>
                <a:off x="6089760" y="4856040"/>
                <a:ext cx="380880" cy="91440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V="1">
                <a:off x="6286680" y="4246200"/>
                <a:ext cx="0" cy="60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6315120" y="5778360"/>
                <a:ext cx="0" cy="4730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6249960" y="5929200"/>
                <a:ext cx="119160" cy="149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6423120" y="5864040"/>
                <a:ext cx="36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I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05" name=""/>
            <p:cNvSpPr/>
            <p:nvPr/>
          </p:nvSpPr>
          <p:spPr>
            <a:xfrm>
              <a:off x="2463840" y="4594320"/>
              <a:ext cx="0" cy="14191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 flipV="1">
              <a:off x="5821200" y="4672080"/>
              <a:ext cx="0" cy="14191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506600" y="5056200"/>
              <a:ext cx="98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+V=+I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960800" y="5068800"/>
              <a:ext cx="98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V=-I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Kirchhoff’s Law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209160" y="1386000"/>
            <a:ext cx="4275000" cy="50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solve problems, follow a loop around a circuit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-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-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6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-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8V (2Ax4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-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3V (3Ax1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) –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n add up the p.d’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V+6V-8V+3V-V=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=1V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8224920" y="2484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4936680" y="1527120"/>
            <a:ext cx="4056480" cy="4692240"/>
            <a:chOff x="4936680" y="1527120"/>
            <a:chExt cx="4056480" cy="4692240"/>
          </a:xfrm>
        </p:grpSpPr>
        <p:grpSp>
          <p:nvGrpSpPr>
            <p:cNvPr id="613" name=""/>
            <p:cNvGrpSpPr/>
            <p:nvPr/>
          </p:nvGrpSpPr>
          <p:grpSpPr>
            <a:xfrm>
              <a:off x="4936680" y="1527120"/>
              <a:ext cx="4011840" cy="4692240"/>
              <a:chOff x="4936680" y="1527120"/>
              <a:chExt cx="4011840" cy="4692240"/>
            </a:xfrm>
          </p:grpSpPr>
          <p:grpSp>
            <p:nvGrpSpPr>
              <p:cNvPr id="614" name=""/>
              <p:cNvGrpSpPr/>
              <p:nvPr/>
            </p:nvGrpSpPr>
            <p:grpSpPr>
              <a:xfrm>
                <a:off x="4936680" y="2070720"/>
                <a:ext cx="3999600" cy="3900960"/>
                <a:chOff x="4936680" y="2070720"/>
                <a:chExt cx="3999600" cy="3900960"/>
              </a:xfrm>
            </p:grpSpPr>
            <p:grpSp>
              <p:nvGrpSpPr>
                <p:cNvPr id="615" name=""/>
                <p:cNvGrpSpPr/>
                <p:nvPr/>
              </p:nvGrpSpPr>
              <p:grpSpPr>
                <a:xfrm>
                  <a:off x="7989840" y="3688920"/>
                  <a:ext cx="946440" cy="179280"/>
                  <a:chOff x="7989840" y="3688920"/>
                  <a:chExt cx="946440" cy="179280"/>
                </a:xfrm>
              </p:grpSpPr>
              <p:sp>
                <p:nvSpPr>
                  <p:cNvPr id="616" name=""/>
                  <p:cNvSpPr/>
                  <p:nvPr/>
                </p:nvSpPr>
                <p:spPr>
                  <a:xfrm>
                    <a:off x="7989840" y="3868200"/>
                    <a:ext cx="946440" cy="0"/>
                  </a:xfrm>
                  <a:prstGeom prst="line">
                    <a:avLst/>
                  </a:prstGeom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>
                    <a:off x="8201880" y="3688920"/>
                    <a:ext cx="512640" cy="0"/>
                  </a:xfrm>
                  <a:prstGeom prst="line">
                    <a:avLst/>
                  </a:prstGeom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8" name=""/>
                <p:cNvGrpSpPr/>
                <p:nvPr/>
              </p:nvGrpSpPr>
              <p:grpSpPr>
                <a:xfrm>
                  <a:off x="4936680" y="2070720"/>
                  <a:ext cx="3564360" cy="3900960"/>
                  <a:chOff x="4936680" y="2070720"/>
                  <a:chExt cx="3564360" cy="3900960"/>
                </a:xfrm>
              </p:grpSpPr>
              <p:sp>
                <p:nvSpPr>
                  <p:cNvPr id="619" name=""/>
                  <p:cNvSpPr/>
                  <p:nvPr/>
                </p:nvSpPr>
                <p:spPr>
                  <a:xfrm>
                    <a:off x="5517360" y="3832920"/>
                    <a:ext cx="510840" cy="1122480"/>
                  </a:xfrm>
                  <a:prstGeom prst="rect">
                    <a:avLst/>
                  </a:prstGeom>
                  <a:solidFill>
                    <a:srgbClr val="6666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>
                    <a:off x="6496920" y="5463720"/>
                    <a:ext cx="1581120" cy="507960"/>
                  </a:xfrm>
                  <a:prstGeom prst="rect">
                    <a:avLst/>
                  </a:prstGeom>
                  <a:solidFill>
                    <a:srgbClr val="6666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21" name=""/>
                  <p:cNvGrpSpPr/>
                  <p:nvPr/>
                </p:nvGrpSpPr>
                <p:grpSpPr>
                  <a:xfrm>
                    <a:off x="5262480" y="2858400"/>
                    <a:ext cx="946440" cy="179280"/>
                    <a:chOff x="5262480" y="2858400"/>
                    <a:chExt cx="946440" cy="179280"/>
                  </a:xfrm>
                </p:grpSpPr>
                <p:sp>
                  <p:nvSpPr>
                    <p:cNvPr id="622" name=""/>
                    <p:cNvSpPr/>
                    <p:nvPr/>
                  </p:nvSpPr>
                  <p:spPr>
                    <a:xfrm>
                      <a:off x="5262480" y="3037680"/>
                      <a:ext cx="946440" cy="0"/>
                    </a:xfrm>
                    <a:prstGeom prst="line">
                      <a:avLst/>
                    </a:prstGeom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3" name=""/>
                    <p:cNvSpPr/>
                    <p:nvPr/>
                  </p:nvSpPr>
                  <p:spPr>
                    <a:xfrm>
                      <a:off x="5474520" y="2858400"/>
                      <a:ext cx="512640" cy="0"/>
                    </a:xfrm>
                    <a:prstGeom prst="line">
                      <a:avLst/>
                    </a:prstGeom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24" name=""/>
                  <p:cNvSpPr/>
                  <p:nvPr/>
                </p:nvSpPr>
                <p:spPr>
                  <a:xfrm>
                    <a:off x="8491320" y="3868560"/>
                    <a:ext cx="0" cy="18478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5" name=""/>
                  <p:cNvSpPr/>
                  <p:nvPr/>
                </p:nvSpPr>
                <p:spPr>
                  <a:xfrm flipH="1">
                    <a:off x="8068320" y="5716800"/>
                    <a:ext cx="42228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6" name=""/>
                  <p:cNvSpPr/>
                  <p:nvPr/>
                </p:nvSpPr>
                <p:spPr>
                  <a:xfrm flipH="1">
                    <a:off x="4936680" y="5729400"/>
                    <a:ext cx="154836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7" name=""/>
                  <p:cNvSpPr/>
                  <p:nvPr/>
                </p:nvSpPr>
                <p:spPr>
                  <a:xfrm>
                    <a:off x="5783400" y="4945320"/>
                    <a:ext cx="0" cy="7837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8" name=""/>
                  <p:cNvSpPr/>
                  <p:nvPr/>
                </p:nvSpPr>
                <p:spPr>
                  <a:xfrm flipV="1">
                    <a:off x="5762160" y="3036240"/>
                    <a:ext cx="0" cy="7837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9" name=""/>
                  <p:cNvSpPr/>
                  <p:nvPr/>
                </p:nvSpPr>
                <p:spPr>
                  <a:xfrm flipV="1">
                    <a:off x="5762160" y="2093040"/>
                    <a:ext cx="0" cy="74844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0" name=""/>
                  <p:cNvSpPr/>
                  <p:nvPr/>
                </p:nvSpPr>
                <p:spPr>
                  <a:xfrm>
                    <a:off x="4960080" y="2070720"/>
                    <a:ext cx="3529440" cy="1044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1" name=""/>
                  <p:cNvSpPr/>
                  <p:nvPr/>
                </p:nvSpPr>
                <p:spPr>
                  <a:xfrm>
                    <a:off x="8501040" y="2081160"/>
                    <a:ext cx="0" cy="15951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32" name=""/>
              <p:cNvSpPr/>
              <p:nvPr/>
            </p:nvSpPr>
            <p:spPr>
              <a:xfrm>
                <a:off x="6229080" y="2674800"/>
                <a:ext cx="634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V?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5400000">
                <a:off x="5243760" y="1982160"/>
                <a:ext cx="179640" cy="1890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flipV="1">
                <a:off x="5686560" y="2337120"/>
                <a:ext cx="165600" cy="204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V="1">
                <a:off x="8407800" y="4693680"/>
                <a:ext cx="165960" cy="204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flipV="1">
                <a:off x="8419320" y="2593800"/>
                <a:ext cx="165600" cy="204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16200000">
                <a:off x="6087600" y="5637600"/>
                <a:ext cx="179640" cy="1890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5400000">
                <a:off x="6815520" y="1983960"/>
                <a:ext cx="179640" cy="1890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flipV="1">
                <a:off x="5699880" y="5142600"/>
                <a:ext cx="165960" cy="204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16200000">
                <a:off x="5298120" y="5639400"/>
                <a:ext cx="180000" cy="1890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7322760" y="3484080"/>
                <a:ext cx="779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6V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821280" y="5451840"/>
                <a:ext cx="968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r>
                  <a:rPr b="0" lang="el-GR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Ω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5448240" y="4122000"/>
                <a:ext cx="913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r>
                  <a:rPr b="0" lang="el-GR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Ω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5717880" y="1527120"/>
                <a:ext cx="734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8358480" y="1527120"/>
                <a:ext cx="567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302680" y="5851080"/>
                <a:ext cx="645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5606280" y="5851080"/>
                <a:ext cx="657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48" name=""/>
            <p:cNvSpPr/>
            <p:nvPr/>
          </p:nvSpPr>
          <p:spPr>
            <a:xfrm>
              <a:off x="7939080" y="2484360"/>
              <a:ext cx="105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205240" y="505476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Kirchhoff’s Law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220320" y="1008000"/>
            <a:ext cx="4684680" cy="55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rder…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-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-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0.75A x 4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= -3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-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-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x 2 = -2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-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5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dding: -3 -2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5 =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 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= 1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ing the current law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A = 0.75A + 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 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0.25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4667400" y="1473120"/>
            <a:ext cx="4476240" cy="4591440"/>
            <a:chOff x="4667400" y="1473120"/>
            <a:chExt cx="4476240" cy="4591440"/>
          </a:xfrm>
        </p:grpSpPr>
        <p:grpSp>
          <p:nvGrpSpPr>
            <p:cNvPr id="653" name=""/>
            <p:cNvGrpSpPr/>
            <p:nvPr/>
          </p:nvGrpSpPr>
          <p:grpSpPr>
            <a:xfrm>
              <a:off x="6134040" y="1627920"/>
              <a:ext cx="165600" cy="583560"/>
              <a:chOff x="6134040" y="1627920"/>
              <a:chExt cx="165600" cy="583560"/>
            </a:xfrm>
          </p:grpSpPr>
          <p:sp>
            <p:nvSpPr>
              <p:cNvPr id="654" name=""/>
              <p:cNvSpPr/>
              <p:nvPr/>
            </p:nvSpPr>
            <p:spPr>
              <a:xfrm>
                <a:off x="6134040" y="1627920"/>
                <a:ext cx="0" cy="5835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6299640" y="1796040"/>
                <a:ext cx="0" cy="2851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56" name=""/>
            <p:cNvGrpSpPr/>
            <p:nvPr/>
          </p:nvGrpSpPr>
          <p:grpSpPr>
            <a:xfrm>
              <a:off x="6499440" y="1616760"/>
              <a:ext cx="166320" cy="583560"/>
              <a:chOff x="6499440" y="1616760"/>
              <a:chExt cx="166320" cy="583560"/>
            </a:xfrm>
          </p:grpSpPr>
          <p:sp>
            <p:nvSpPr>
              <p:cNvPr id="657" name=""/>
              <p:cNvSpPr/>
              <p:nvPr/>
            </p:nvSpPr>
            <p:spPr>
              <a:xfrm>
                <a:off x="6499440" y="1616760"/>
                <a:ext cx="0" cy="5835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6665760" y="1784880"/>
                <a:ext cx="0" cy="2851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59" name=""/>
            <p:cNvGrpSpPr/>
            <p:nvPr/>
          </p:nvGrpSpPr>
          <p:grpSpPr>
            <a:xfrm>
              <a:off x="6796440" y="5380200"/>
              <a:ext cx="165600" cy="583560"/>
              <a:chOff x="6796440" y="5380200"/>
              <a:chExt cx="165600" cy="583560"/>
            </a:xfrm>
          </p:grpSpPr>
          <p:sp>
            <p:nvSpPr>
              <p:cNvPr id="660" name=""/>
              <p:cNvSpPr/>
              <p:nvPr/>
            </p:nvSpPr>
            <p:spPr>
              <a:xfrm>
                <a:off x="6796440" y="5380200"/>
                <a:ext cx="0" cy="5835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6962040" y="5548320"/>
                <a:ext cx="0" cy="2851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62" name=""/>
            <p:cNvGrpSpPr/>
            <p:nvPr/>
          </p:nvGrpSpPr>
          <p:grpSpPr>
            <a:xfrm>
              <a:off x="6424920" y="5384160"/>
              <a:ext cx="166320" cy="583560"/>
              <a:chOff x="6424920" y="5384160"/>
              <a:chExt cx="166320" cy="583560"/>
            </a:xfrm>
          </p:grpSpPr>
          <p:sp>
            <p:nvSpPr>
              <p:cNvPr id="663" name=""/>
              <p:cNvSpPr/>
              <p:nvPr/>
            </p:nvSpPr>
            <p:spPr>
              <a:xfrm>
                <a:off x="6424920" y="5384160"/>
                <a:ext cx="0" cy="5835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6591240" y="5552280"/>
                <a:ext cx="0" cy="2851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65" name=""/>
            <p:cNvGrpSpPr/>
            <p:nvPr/>
          </p:nvGrpSpPr>
          <p:grpSpPr>
            <a:xfrm>
              <a:off x="6063120" y="5385960"/>
              <a:ext cx="165600" cy="583560"/>
              <a:chOff x="6063120" y="5385960"/>
              <a:chExt cx="165600" cy="583560"/>
            </a:xfrm>
          </p:grpSpPr>
          <p:sp>
            <p:nvSpPr>
              <p:cNvPr id="666" name=""/>
              <p:cNvSpPr/>
              <p:nvPr/>
            </p:nvSpPr>
            <p:spPr>
              <a:xfrm>
                <a:off x="6063120" y="5385960"/>
                <a:ext cx="0" cy="5835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6228720" y="5554080"/>
                <a:ext cx="0" cy="2851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68" name=""/>
            <p:cNvSpPr/>
            <p:nvPr/>
          </p:nvSpPr>
          <p:spPr>
            <a:xfrm>
              <a:off x="5392800" y="3524400"/>
              <a:ext cx="1530000" cy="49356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8260920" y="2174040"/>
              <a:ext cx="505080" cy="130968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262720" y="4240440"/>
              <a:ext cx="505800" cy="130968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666120" y="1926720"/>
              <a:ext cx="18280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913440" y="3759840"/>
              <a:ext cx="15944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993720" y="5705640"/>
              <a:ext cx="15429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 flipV="1">
              <a:off x="8508240" y="5548680"/>
              <a:ext cx="0" cy="1684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 flipV="1">
              <a:off x="8506080" y="1911240"/>
              <a:ext cx="0" cy="2718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V="1">
              <a:off x="8521560" y="3484080"/>
              <a:ext cx="0" cy="7660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V="1">
              <a:off x="4994640" y="1915560"/>
              <a:ext cx="26640" cy="3763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032800" y="1928520"/>
              <a:ext cx="11008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996440" y="5680800"/>
              <a:ext cx="10357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034960" y="3786840"/>
              <a:ext cx="3366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rot="16200000">
              <a:off x="5509440" y="1807560"/>
              <a:ext cx="194760" cy="233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 rot="16200000">
              <a:off x="7561800" y="1811520"/>
              <a:ext cx="194760" cy="233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 flipH="1" rot="5400000">
              <a:off x="5475240" y="5565600"/>
              <a:ext cx="194760" cy="233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 flipH="1" rot="5400000">
              <a:off x="7706880" y="5594760"/>
              <a:ext cx="195120" cy="2329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 flipH="1" rot="5400000">
              <a:off x="7374240" y="3634920"/>
              <a:ext cx="194760" cy="233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 flipH="1" rot="10800000">
              <a:off x="4923720" y="2612160"/>
              <a:ext cx="195120" cy="233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 flipH="1" rot="10800000">
              <a:off x="4912200" y="4561920"/>
              <a:ext cx="195120" cy="233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563440" y="3549240"/>
              <a:ext cx="112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l-GR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Ω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8195760" y="2511000"/>
              <a:ext cx="64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l-GR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Ω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220600" y="4614120"/>
              <a:ext cx="71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r>
                <a:rPr b="0" lang="el-GR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Ω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223680" y="2239200"/>
              <a:ext cx="73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5V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172200" y="4795920"/>
              <a:ext cx="89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V?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913440" y="3236760"/>
              <a:ext cx="112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0.75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148000" y="2418840"/>
              <a:ext cx="673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134320" y="4366800"/>
              <a:ext cx="803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770720" y="1484280"/>
              <a:ext cx="73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667400" y="3472560"/>
              <a:ext cx="545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8494560" y="3470400"/>
              <a:ext cx="64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312760" y="1473120"/>
              <a:ext cx="66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860360" y="5611680"/>
              <a:ext cx="70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301240" y="5665680"/>
              <a:ext cx="68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Kirchhoff’s Law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-360" y="1244160"/>
            <a:ext cx="4684680" cy="38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inued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-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0.75A x 4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= -3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-f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0.25A x 8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= +2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-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V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-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dding: -3V + 2V + V? =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 V = 1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4" name=""/>
          <p:cNvGrpSpPr/>
          <p:nvPr/>
        </p:nvGrpSpPr>
        <p:grpSpPr>
          <a:xfrm>
            <a:off x="4667400" y="1473120"/>
            <a:ext cx="4476240" cy="4591440"/>
            <a:chOff x="4667400" y="1473120"/>
            <a:chExt cx="4476240" cy="4591440"/>
          </a:xfrm>
        </p:grpSpPr>
        <p:grpSp>
          <p:nvGrpSpPr>
            <p:cNvPr id="705" name=""/>
            <p:cNvGrpSpPr/>
            <p:nvPr/>
          </p:nvGrpSpPr>
          <p:grpSpPr>
            <a:xfrm>
              <a:off x="6134040" y="1627920"/>
              <a:ext cx="165600" cy="583560"/>
              <a:chOff x="6134040" y="1627920"/>
              <a:chExt cx="165600" cy="583560"/>
            </a:xfrm>
          </p:grpSpPr>
          <p:sp>
            <p:nvSpPr>
              <p:cNvPr id="706" name=""/>
              <p:cNvSpPr/>
              <p:nvPr/>
            </p:nvSpPr>
            <p:spPr>
              <a:xfrm>
                <a:off x="6134040" y="1627920"/>
                <a:ext cx="0" cy="5835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6299640" y="1796040"/>
                <a:ext cx="0" cy="2851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08" name=""/>
            <p:cNvGrpSpPr/>
            <p:nvPr/>
          </p:nvGrpSpPr>
          <p:grpSpPr>
            <a:xfrm>
              <a:off x="6499440" y="1616760"/>
              <a:ext cx="166320" cy="583560"/>
              <a:chOff x="6499440" y="1616760"/>
              <a:chExt cx="166320" cy="583560"/>
            </a:xfrm>
          </p:grpSpPr>
          <p:sp>
            <p:nvSpPr>
              <p:cNvPr id="709" name=""/>
              <p:cNvSpPr/>
              <p:nvPr/>
            </p:nvSpPr>
            <p:spPr>
              <a:xfrm>
                <a:off x="6499440" y="1616760"/>
                <a:ext cx="0" cy="5835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6665760" y="1784880"/>
                <a:ext cx="0" cy="2851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11" name=""/>
            <p:cNvGrpSpPr/>
            <p:nvPr/>
          </p:nvGrpSpPr>
          <p:grpSpPr>
            <a:xfrm>
              <a:off x="6796440" y="5380200"/>
              <a:ext cx="165600" cy="583560"/>
              <a:chOff x="6796440" y="5380200"/>
              <a:chExt cx="165600" cy="583560"/>
            </a:xfrm>
          </p:grpSpPr>
          <p:sp>
            <p:nvSpPr>
              <p:cNvPr id="712" name=""/>
              <p:cNvSpPr/>
              <p:nvPr/>
            </p:nvSpPr>
            <p:spPr>
              <a:xfrm>
                <a:off x="6796440" y="5380200"/>
                <a:ext cx="0" cy="5835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6962040" y="5548320"/>
                <a:ext cx="0" cy="2851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14" name=""/>
            <p:cNvGrpSpPr/>
            <p:nvPr/>
          </p:nvGrpSpPr>
          <p:grpSpPr>
            <a:xfrm>
              <a:off x="6424920" y="5384160"/>
              <a:ext cx="166320" cy="583560"/>
              <a:chOff x="6424920" y="5384160"/>
              <a:chExt cx="166320" cy="583560"/>
            </a:xfrm>
          </p:grpSpPr>
          <p:sp>
            <p:nvSpPr>
              <p:cNvPr id="715" name=""/>
              <p:cNvSpPr/>
              <p:nvPr/>
            </p:nvSpPr>
            <p:spPr>
              <a:xfrm>
                <a:off x="6424920" y="5384160"/>
                <a:ext cx="0" cy="5835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6591240" y="5552280"/>
                <a:ext cx="0" cy="2851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17" name=""/>
            <p:cNvGrpSpPr/>
            <p:nvPr/>
          </p:nvGrpSpPr>
          <p:grpSpPr>
            <a:xfrm>
              <a:off x="6063120" y="5385960"/>
              <a:ext cx="165600" cy="583560"/>
              <a:chOff x="6063120" y="5385960"/>
              <a:chExt cx="165600" cy="583560"/>
            </a:xfrm>
          </p:grpSpPr>
          <p:sp>
            <p:nvSpPr>
              <p:cNvPr id="718" name=""/>
              <p:cNvSpPr/>
              <p:nvPr/>
            </p:nvSpPr>
            <p:spPr>
              <a:xfrm>
                <a:off x="6063120" y="5385960"/>
                <a:ext cx="0" cy="5835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6228720" y="5554080"/>
                <a:ext cx="0" cy="2851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20" name=""/>
            <p:cNvSpPr/>
            <p:nvPr/>
          </p:nvSpPr>
          <p:spPr>
            <a:xfrm>
              <a:off x="5392800" y="3524400"/>
              <a:ext cx="1530000" cy="49356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8260920" y="2174040"/>
              <a:ext cx="505080" cy="130968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8262720" y="4240440"/>
              <a:ext cx="505800" cy="130968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666120" y="1926720"/>
              <a:ext cx="18280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913440" y="3759840"/>
              <a:ext cx="15944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993720" y="5705640"/>
              <a:ext cx="15429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 flipV="1">
              <a:off x="8508240" y="5548680"/>
              <a:ext cx="0" cy="1684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 flipV="1">
              <a:off x="8506080" y="1911240"/>
              <a:ext cx="0" cy="2718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 flipV="1">
              <a:off x="8521560" y="3484080"/>
              <a:ext cx="0" cy="7660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 flipV="1">
              <a:off x="4994640" y="1915560"/>
              <a:ext cx="26640" cy="3763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032800" y="1928520"/>
              <a:ext cx="11008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996440" y="5680800"/>
              <a:ext cx="10357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034960" y="3786840"/>
              <a:ext cx="3366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 rot="16200000">
              <a:off x="5509440" y="1807560"/>
              <a:ext cx="194760" cy="233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 rot="16200000">
              <a:off x="7561800" y="1811520"/>
              <a:ext cx="194760" cy="233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 rot="5400000">
              <a:off x="5475240" y="5565600"/>
              <a:ext cx="194760" cy="233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 flipH="1" rot="5400000">
              <a:off x="7706880" y="5594760"/>
              <a:ext cx="195120" cy="2329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 rot="5400000">
              <a:off x="7374240" y="3634920"/>
              <a:ext cx="194760" cy="233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 rot="10800000">
              <a:off x="4923720" y="2612160"/>
              <a:ext cx="195120" cy="233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 rot="10800000">
              <a:off x="4912200" y="4561920"/>
              <a:ext cx="195120" cy="233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563440" y="3549240"/>
              <a:ext cx="112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l-GR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Ω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8195760" y="2511000"/>
              <a:ext cx="64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l-GR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Ω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8220600" y="4614120"/>
              <a:ext cx="71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r>
                <a:rPr b="0" lang="el-GR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Ω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223680" y="2239200"/>
              <a:ext cx="73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5V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172200" y="4795920"/>
              <a:ext cx="89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V?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913440" y="3236760"/>
              <a:ext cx="112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0.75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148000" y="2418840"/>
              <a:ext cx="673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134320" y="4366800"/>
              <a:ext cx="803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770720" y="1484280"/>
              <a:ext cx="73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667400" y="3472560"/>
              <a:ext cx="545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8494560" y="3470400"/>
              <a:ext cx="64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8312760" y="1473120"/>
              <a:ext cx="66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860360" y="5611680"/>
              <a:ext cx="70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8301240" y="5665680"/>
              <a:ext cx="68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Internal Resistanc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components have some resistance, including cells and me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otential difference (voltage) measured across a cell when no current is being drawn is called the E.M.F (electro-motive for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current flows, the voltage measured across the terminals of the cell will drop, because of the cell’s internal resistanc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01:22:42Z</dcterms:created>
  <dc:creator> Maree</dc:creator>
  <dc:description/>
  <dc:language>en-US</dc:language>
  <cp:lastModifiedBy>Administrator</cp:lastModifiedBy>
  <dcterms:modified xsi:type="dcterms:W3CDTF">2005-07-28T02:02:14Z</dcterms:modified>
  <cp:revision>17</cp:revision>
  <dc:subject/>
  <dc:title>Slide 1</dc:title>
</cp:coreProperties>
</file>